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47BAA-D4A3-4FF3-BE3B-EB4015EE762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0FC2E-62D5-4D82-B089-FA49EC3C81B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267000" y="509760"/>
            <a:ext cx="3403800" cy="2552400"/>
          </a:xfrm>
          <a:prstGeom prst="rect">
            <a:avLst/>
          </a:prstGeom>
          <a:ln w="0">
            <a:noFill/>
          </a:ln>
        </p:spPr>
      </p:sp>
      <p:sp>
        <p:nvSpPr>
          <p:cNvPr id="304"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FC2F3-64D5-4CC3-9925-CDC35307E920}"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267000" y="509760"/>
            <a:ext cx="3403800" cy="2552400"/>
          </a:xfrm>
          <a:prstGeom prst="rect">
            <a:avLst/>
          </a:prstGeom>
          <a:ln w="0">
            <a:noFill/>
          </a:ln>
        </p:spPr>
      </p:sp>
      <p:sp>
        <p:nvSpPr>
          <p:cNvPr id="30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A1933-26CE-4752-B89C-D8FF8BD9EEBA}"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267000" y="509760"/>
            <a:ext cx="3403800" cy="2552400"/>
          </a:xfrm>
          <a:prstGeom prst="rect">
            <a:avLst/>
          </a:prstGeom>
          <a:ln w="0">
            <a:noFill/>
          </a:ln>
        </p:spPr>
      </p:sp>
      <p:sp>
        <p:nvSpPr>
          <p:cNvPr id="31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1C766-FEAA-4B3B-87F4-7363D9888EDC}"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267000" y="509760"/>
            <a:ext cx="3403800" cy="2552400"/>
          </a:xfrm>
          <a:prstGeom prst="rect">
            <a:avLst/>
          </a:prstGeom>
          <a:ln w="0">
            <a:noFill/>
          </a:ln>
        </p:spPr>
      </p:sp>
      <p:sp>
        <p:nvSpPr>
          <p:cNvPr id="31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449C1-9C4A-4736-A2CE-F18B738BFEC0}"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EEB83-4C6D-4D03-AE5C-89D74D1E226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6A36B-2BCC-4CC5-8062-3EC52B93AA87}"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7BEEA-F099-4DAA-963E-9317D18569CD}"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62479-5F09-4F60-B85B-ECC8F0BE3EC5}"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0EBFD-D811-4FC5-B8FB-51C8DA758596}"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79F4D-AAE6-4D65-8B72-AC777F7A9D9B}"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B198C-6B83-44DF-8B98-82316A256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11B317DA-11AF-4597-83DC-2484C2781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CEB5D45D-F676-4E27-9461-DBE36AD29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8CCC9A72-B749-4537-B67E-1878D3F2D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C2C86A-0884-4A34-A9F9-30E5D58DCA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96D2EE3E-AEDD-46A4-8131-1BEA810EE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B5C378EF-2B7C-498A-BF51-82F4168641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A5029A6F-2753-4F35-8038-B5330E34B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95887A7F-2CF2-473C-A11F-83E244A879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7983A823-F10C-4F68-A626-DFC99FD436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51331DA2-5FC8-45F3-9B41-65B37D9BE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D644B6AD-082D-4550-B1FF-654EC9270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E31E0F3A-522C-49D2-B60F-BC49E6974E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A57D8553-255D-4CFD-ACEA-772779763E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E66EF70A-D365-4A28-853E-F1F3BD02CE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4F7F767D-2099-4F0F-BA63-A9C6D8F1FF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7FCE4DA4-2C83-478C-9B7C-AAFFA96A02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ED010D99-22F5-49A2-842F-580E784995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1A23BE6D-645B-4431-A9D7-03D0082EB4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A0D3DDB5-0BCF-47A5-B4D2-B03353DFF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D1895555-19C4-48C1-92F3-F69440767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FBDEC52D-6600-44C4-85A4-E68B7E506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A3572691-F37B-4F8D-8616-3E5ABEC5C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55A581CE-3206-4833-83B2-3D3BBB4807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60CF-FF1C-46E5-8494-FBBCFFA80EDB}"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0131-8AB7-4B80-9754-B998BB1986F7}"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5</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5</a:t>
            </a:r>
            <a:endParaRPr b="0" lang="en-US" sz="1200" spc="-1" strike="noStrike">
              <a:solidFill>
                <a:srgbClr val="ffffff"/>
              </a:solidFill>
              <a:latin typeface="Arial"/>
            </a:endParaRPr>
          </a:p>
        </p:txBody>
      </p:sp>
      <p:sp>
        <p:nvSpPr>
          <p:cNvPr id="240" name="Rectangle 7"/>
          <p:cNvSpPr/>
          <p:nvPr/>
        </p:nvSpPr>
        <p:spPr>
          <a:xfrm>
            <a:off x="-304920" y="1371600"/>
            <a:ext cx="9734760" cy="1752480"/>
          </a:xfrm>
          <a:prstGeom prst="rect">
            <a:avLst/>
          </a:prstGeom>
          <a:noFill/>
          <a:ln w="0">
            <a:noFill/>
          </a:ln>
        </p:spPr>
        <p:style>
          <a:lnRef idx="0"/>
          <a:fillRef idx="0"/>
          <a:effectRef idx="0"/>
          <a:fontRef idx="minor"/>
        </p:style>
        <p:txBody>
          <a:bodyPr lIns="0" rIns="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中宋"/>
                <a:ea typeface="华文中宋"/>
              </a:rPr>
              <a:t>关于交通运输行业推广应用</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中宋"/>
                <a:ea typeface="华文中宋"/>
              </a:rPr>
              <a:t>新能源汽车的政策分析</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5</a:t>
            </a:r>
            <a:r>
              <a:rPr b="0" lang="zh-CN" sz="4000" spc="-1" strike="noStrike">
                <a:solidFill>
                  <a:srgbClr val="333399"/>
                </a:solidFill>
                <a:latin typeface="华文中宋"/>
                <a:ea typeface="华文中宋"/>
              </a:rPr>
              <a:t>年</a:t>
            </a:r>
            <a:r>
              <a:rPr b="0" lang="en-US" sz="4000" spc="-1" strike="noStrike">
                <a:solidFill>
                  <a:srgbClr val="333399"/>
                </a:solidFill>
                <a:latin typeface="华文中宋"/>
                <a:ea typeface="华文中宋"/>
              </a:rPr>
              <a:t>8</a:t>
            </a:r>
            <a:r>
              <a:rPr b="0" lang="zh-CN" sz="4000" spc="-1" strike="noStrike">
                <a:solidFill>
                  <a:srgbClr val="333399"/>
                </a:solidFill>
                <a:latin typeface="华文中宋"/>
                <a:ea typeface="华文中宋"/>
              </a:rPr>
              <a:t>月</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886E-21AB-445C-9927-09C533F232C1}"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交运行业推广应用新能源汽车政策的分析</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关于加快新能源汽车推广应用的指导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4</a:t>
            </a:r>
            <a:r>
              <a:rPr b="0" lang="en-US"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en-US"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4</a:t>
            </a:r>
            <a:r>
              <a:rPr b="0" lang="en-US" sz="1900" spc="-1" strike="noStrike">
                <a:solidFill>
                  <a:srgbClr val="333399"/>
                </a:solidFill>
                <a:latin typeface="华文中宋"/>
                <a:ea typeface="华文中宋"/>
              </a:rPr>
              <a:t>日，国务院办公厅印发《关于加快新能源汽车推广应用的指导意见》。其中，涉及交通运输行业推广应用新能源汽车的具体政策有以下几点：一是扩大公共服务领域新能源汽车应用规模。提出，各地区、各有关部门要在公交车、出租车等城市客运以及环卫、物流、机场通勤、公安巡逻等领域加大新能源汽车推广应用力度，制定机动车更新计划，不断提高新能源汽车运营比重。二是改革完善城市公交车成品油价格补贴政策。提出，通过逐步减少对城市公交车燃油补贴和增加对新能源公交车运营补贴，将补贴额度与新能源公交车推广目标完成情况相挂钩，形成鼓励新能源公交车应用、限制燃油公交车增长的机制，加快新能源公交车替代燃油公交车步伐，促进城市公交行业健康发展。三是实行差异化的新能源汽车交通管理政策。提出，有关地区为缓解交通拥堵采取机动车限购、限行措施时，应当对新能源汽车给予优惠和便利。</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72E7-BD2E-4355-B1ED-D1589D40E37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交运行业推广应用新能源汽车政策的分析</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完善城市公交车成品油价格补助政策（</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财政部、工业和信息化部、交通运输部联合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完善城市公交车成品油价格补助政策加快新能源汽车推广应用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经国务院批准，从</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起对城市公交车成品油价格补助政策进行调整。具体政策措施包括以下几点：一是调整现行城市公交车成品油价格补助政策。</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至</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年，现行城市公交车成品油价格补助中的费改税补助数额以</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实际执行数作为基数予以保留，暂不做调整；</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年，现行城市公交车成品油价格补助中的涨价补助以</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实际执行数作为基数逐步递减，其中</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减少</a:t>
            </a:r>
            <a:r>
              <a:rPr b="0" lang="en-US" sz="1900" spc="-1" strike="noStrike">
                <a:solidFill>
                  <a:srgbClr val="333399"/>
                </a:solidFill>
                <a:latin typeface="华文中宋"/>
                <a:ea typeface="华文中宋"/>
              </a:rPr>
              <a:t>1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减少</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年减少</a:t>
            </a:r>
            <a:r>
              <a:rPr b="0" lang="en-US" sz="1900" spc="-1" strike="noStrike">
                <a:solidFill>
                  <a:srgbClr val="333399"/>
                </a:solidFill>
                <a:latin typeface="华文中宋"/>
                <a:ea typeface="华文中宋"/>
              </a:rPr>
              <a:t>4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8</a:t>
            </a:r>
            <a:r>
              <a:rPr b="0" lang="zh-CN" sz="1900" spc="-1" strike="noStrike">
                <a:solidFill>
                  <a:srgbClr val="333399"/>
                </a:solidFill>
                <a:latin typeface="华文中宋"/>
                <a:ea typeface="华文中宋"/>
              </a:rPr>
              <a:t>年减少</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年减少</a:t>
            </a:r>
            <a:r>
              <a:rPr b="0" lang="en-US" sz="1900" spc="-1" strike="noStrike">
                <a:solidFill>
                  <a:srgbClr val="333399"/>
                </a:solidFill>
                <a:latin typeface="华文中宋"/>
                <a:ea typeface="华文中宋"/>
              </a:rPr>
              <a:t>6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以后根据城市公交车用能结构情况另行确定。二是涨价补助数额与新能源公交车推广数量挂钩。</a:t>
            </a:r>
            <a:r>
              <a:rPr b="0" lang="en-US" sz="1900" spc="-1" strike="noStrike">
                <a:solidFill>
                  <a:srgbClr val="333399"/>
                </a:solidFill>
                <a:latin typeface="华文中宋"/>
                <a:ea typeface="华文中宋"/>
              </a:rPr>
              <a:t>2015-2019</a:t>
            </a:r>
            <a:r>
              <a:rPr b="0" lang="zh-CN" sz="1900" spc="-1" strike="noStrike">
                <a:solidFill>
                  <a:srgbClr val="333399"/>
                </a:solidFill>
                <a:latin typeface="华文中宋"/>
                <a:ea typeface="华文中宋"/>
              </a:rPr>
              <a:t>年，城市公交车成品油价格补助中的涨价补助数额与新能源公交车推广数量挂钩。</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63D4-E4FA-473C-B19B-7F41BC80986E}"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交运行业推广应用新能源汽车政策的分析</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完善城市公交车成品油价格补助政策（</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年，大气污染治理重点区域和重点省市（包括北京、上海、天津、河北、山西、江苏、浙江、山东、广东、海南）新增及更换的公交车中新能源公交车比重应分别达到</a:t>
            </a:r>
            <a:r>
              <a:rPr b="0" lang="en-US" sz="1900" spc="-1" strike="noStrike">
                <a:solidFill>
                  <a:srgbClr val="333399"/>
                </a:solidFill>
                <a:latin typeface="华文中宋"/>
                <a:ea typeface="华文中宋"/>
              </a:rPr>
              <a:t>4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5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6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70</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80</a:t>
            </a:r>
            <a:r>
              <a:rPr b="0" lang="zh-CN" sz="1900" spc="-1" strike="noStrike">
                <a:solidFill>
                  <a:srgbClr val="333399"/>
                </a:solidFill>
                <a:latin typeface="华文中宋"/>
                <a:ea typeface="华文中宋"/>
              </a:rPr>
              <a:t>％；中部省（包括安徽、江西、河南、湖北、湖南）和福建省新增及更换的公交车中新能源公交车比重应分别达到</a:t>
            </a:r>
            <a:r>
              <a:rPr b="0" lang="en-US" sz="1900" spc="-1" strike="noStrike">
                <a:solidFill>
                  <a:srgbClr val="333399"/>
                </a:solidFill>
                <a:latin typeface="华文中宋"/>
                <a:ea typeface="华文中宋"/>
              </a:rPr>
              <a:t>2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3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4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55</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65</a:t>
            </a:r>
            <a:r>
              <a:rPr b="0" lang="zh-CN" sz="1900" spc="-1" strike="noStrike">
                <a:solidFill>
                  <a:srgbClr val="333399"/>
                </a:solidFill>
                <a:latin typeface="华文中宋"/>
                <a:ea typeface="华文中宋"/>
              </a:rPr>
              <a:t>％；其他省（区、市）新增及更换的公交车中新能源公交车比重应分别达到</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15</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5</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达到上述推广比例要求的，涨价补助按照政策调整后的标准全额拨付。未能达到上述推广比例要求的，扣减当年应拨涨价补助数额的</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具体办法由三部委另行制订。三是调整后的城市公交车成品油价格补助资金由地方统筹用于城市公交车补助。各省区、市制定具体管理办法。城市公交车补助问题由地方政府通过增加财政补助、调整运价等方式予以解决。</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0CE8-8183-4109-A9AF-80510A71DD44}"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涉及交运行业推广应用新能源汽车政策的分析</a:t>
            </a:r>
            <a:endParaRPr b="0" lang="en-US" sz="2600" spc="-1" strike="noStrike">
              <a:solidFill>
                <a:srgbClr val="333399"/>
              </a:solidFill>
              <a:latin typeface="Arial Black"/>
            </a:endParaRPr>
          </a:p>
        </p:txBody>
      </p:sp>
      <p:sp>
        <p:nvSpPr>
          <p:cNvPr id="276"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完善城市公交车成品油价格补助政策（</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四是</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年期间中央财政对达到推广目标的省份，对纳入“新能源汽车推广应用工程推荐车型目录”、年运营里程不低于</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万公里（含</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万公里）的新能源公交车以及非插电式混合动力公交车，按照其实际推广数量给予运营补助。</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以后再综合考虑产业发展、成本变化及优惠电价等因素调整运营补助政策。按照附件确定的</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节能与新能源公交车运营补助标准（</a:t>
            </a:r>
            <a:r>
              <a:rPr b="0" lang="en-US" sz="1900" spc="-1" strike="noStrike">
                <a:solidFill>
                  <a:srgbClr val="333399"/>
                </a:solidFill>
                <a:latin typeface="华文中宋"/>
                <a:ea typeface="华文中宋"/>
              </a:rPr>
              <a:t>2015-2019</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纯电动公交车按照车长</a:t>
            </a:r>
            <a:r>
              <a:rPr b="0" lang="en-US" sz="1900" spc="-1" strike="noStrike">
                <a:solidFill>
                  <a:srgbClr val="333399"/>
                </a:solidFill>
                <a:latin typeface="华文中宋"/>
                <a:ea typeface="华文中宋"/>
              </a:rPr>
              <a:t>L</a:t>
            </a:r>
            <a:r>
              <a:rPr b="0" lang="zh-CN" sz="1900" spc="-1" strike="noStrike">
                <a:solidFill>
                  <a:srgbClr val="333399"/>
                </a:solidFill>
                <a:latin typeface="华文中宋"/>
                <a:ea typeface="华文中宋"/>
              </a:rPr>
              <a:t>（米）不同，每辆车每年分别补助</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6≤L</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8≤L</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L≥10</a:t>
            </a:r>
            <a:r>
              <a:rPr b="0" lang="zh-CN" sz="1900" spc="-1" strike="noStrike">
                <a:solidFill>
                  <a:srgbClr val="333399"/>
                </a:solidFill>
                <a:latin typeface="华文中宋"/>
                <a:ea typeface="华文中宋"/>
              </a:rPr>
              <a:t>）；插电式混合动力（含增程式）公交车按照车长</a:t>
            </a:r>
            <a:r>
              <a:rPr b="0" lang="en-US" sz="1900" spc="-1" strike="noStrike">
                <a:solidFill>
                  <a:srgbClr val="333399"/>
                </a:solidFill>
                <a:latin typeface="华文中宋"/>
                <a:ea typeface="华文中宋"/>
              </a:rPr>
              <a:t>L</a:t>
            </a:r>
            <a:r>
              <a:rPr b="0" lang="zh-CN" sz="1900" spc="-1" strike="noStrike">
                <a:solidFill>
                  <a:srgbClr val="333399"/>
                </a:solidFill>
                <a:latin typeface="华文中宋"/>
                <a:ea typeface="华文中宋"/>
              </a:rPr>
              <a:t>（米）不同，每辆车每年分别补助</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6≤L</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8≤L</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万元（</a:t>
            </a:r>
            <a:r>
              <a:rPr b="0" lang="en-US" sz="1900" spc="-1" strike="noStrike">
                <a:solidFill>
                  <a:srgbClr val="333399"/>
                </a:solidFill>
                <a:latin typeface="华文中宋"/>
                <a:ea typeface="华文中宋"/>
              </a:rPr>
              <a:t>L≥10</a:t>
            </a:r>
            <a:r>
              <a:rPr b="0" lang="zh-CN" sz="1900" spc="-1" strike="noStrike">
                <a:solidFill>
                  <a:srgbClr val="333399"/>
                </a:solidFill>
                <a:latin typeface="华文中宋"/>
                <a:ea typeface="华文中宋"/>
              </a:rPr>
              <a:t>）；燃料电池公交车每辆车每年补助</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万元；超级电容公交车每辆车每年补助</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万元；非插电式混合动力公交车每辆车每年补助</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万元。</a:t>
            </a:r>
            <a:endParaRPr b="0" lang="en-US" sz="1900" spc="-1" strike="noStrike">
              <a:solidFill>
                <a:srgbClr val="333399"/>
              </a:solidFill>
              <a:latin typeface="Arial"/>
            </a:endParaRPr>
          </a:p>
        </p:txBody>
      </p:sp>
      <p:sp>
        <p:nvSpPr>
          <p:cNvPr id="27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89D5-7BF9-46A5-A39A-2B5C0632553F}"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落实交运行业推广应用新能源汽车政策的建议</a:t>
            </a:r>
            <a:endParaRPr b="0" lang="en-US" sz="2600" spc="-1" strike="noStrike">
              <a:solidFill>
                <a:srgbClr val="333399"/>
              </a:solidFill>
              <a:latin typeface="Arial Black"/>
            </a:endParaRPr>
          </a:p>
        </p:txBody>
      </p:sp>
      <p:sp>
        <p:nvSpPr>
          <p:cNvPr id="27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建议有关部门通力合作完善配套政策和标准</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落实加快推进新能源汽车在交通运输行业推广应用的政策措施，涉及多个部委和地方部门的职责任务，必须通力合作完善配套政策和标准。为此建议：</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一、确保实现</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总体目标关键在地方政府。建议交通运输部切实加强规划引领，对各城市制定和实施推广应用规划的情况进行督促检查，尽快编制交通运输行业新能源汽车推广应用实施方案和年度实施计划，并将总体目标分解落实到各城市，按年度进行目标任务完成情况的考核。</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建议国家有关部委进一步完善推进新能源汽车在交通运输行业推广应用的配套政策措施。研究制定新能源公交车、出租汽车、城市物流配送和邮政快递车辆技术准入和退出的标准规范、车辆和特有部件（电池等）维修服务规范等，建立完善新能源汽车使用环节的技术标准规范体系。研究制定鼓励新能源汽车生产企业进行适用车型研发和整车融资租赁的具体政策等。</a:t>
            </a:r>
            <a:endParaRPr b="0" lang="en-US" sz="1900" spc="-1" strike="noStrike">
              <a:solidFill>
                <a:srgbClr val="333399"/>
              </a:solidFill>
              <a:latin typeface="Arial"/>
            </a:endParaRPr>
          </a:p>
        </p:txBody>
      </p:sp>
      <p:sp>
        <p:nvSpPr>
          <p:cNvPr id="28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34DC-8B39-46D9-BD01-5562C21BE473}"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143000"/>
            <a:ext cx="8305920" cy="4952880"/>
          </a:xfrm>
          <a:prstGeom prst="rect">
            <a:avLst/>
          </a:prstGeom>
          <a:noFill/>
          <a:ln w="0">
            <a:noFill/>
          </a:ln>
        </p:spPr>
        <p:txBody>
          <a:bodyPr anchor="t">
            <a:normAutofit/>
          </a:bodyPr>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问题的提出</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中宋"/>
                <a:ea typeface="华文中宋"/>
              </a:rPr>
              <a:t>关于《实施意见》的政策要点分析</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涉及交运行业推广应用新能源汽车政策的分析</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落实交运行业推广应用新能源汽车政策的建议</a:t>
            </a:r>
            <a:endParaRPr b="0" lang="en-US" sz="28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9A7F-2707-4641-A8ED-B3397A1A67F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问题的提出</a:t>
            </a:r>
            <a:endParaRPr b="0" lang="en-US" sz="2600" spc="-1" strike="noStrike">
              <a:solidFill>
                <a:srgbClr val="333399"/>
              </a:solidFill>
              <a:latin typeface="Arial Black"/>
            </a:endParaRPr>
          </a:p>
        </p:txBody>
      </p:sp>
      <p:sp>
        <p:nvSpPr>
          <p:cNvPr id="246" name="PlaceHolder 2"/>
          <p:cNvSpPr>
            <a:spLocks noGrp="1"/>
          </p:cNvSpPr>
          <p:nvPr>
            <p:ph/>
          </p:nvPr>
        </p:nvSpPr>
        <p:spPr>
          <a:xfrm>
            <a:off x="304920" y="990360"/>
            <a:ext cx="8610480" cy="6172200"/>
          </a:xfrm>
          <a:prstGeom prst="rect">
            <a:avLst/>
          </a:prstGeom>
          <a:noFill/>
          <a:ln w="0">
            <a:noFill/>
          </a:ln>
        </p:spPr>
        <p:txBody>
          <a:bodyPr anchor="t">
            <a:normAutofit/>
          </a:bodyPr>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华文中宋"/>
              </a:rPr>
              <a:t>       </a:t>
            </a:r>
            <a:r>
              <a:rPr b="0" lang="en-US" sz="2000" spc="-1" strike="noStrike">
                <a:solidFill>
                  <a:srgbClr val="333399"/>
                </a:solidFill>
                <a:latin typeface="华文中宋"/>
                <a:ea typeface="华文中宋"/>
              </a:rPr>
              <a:t>2014</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7</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14</a:t>
            </a:r>
            <a:r>
              <a:rPr b="0" lang="zh-CN" sz="2000" spc="-1" strike="noStrike">
                <a:solidFill>
                  <a:srgbClr val="333399"/>
                </a:solidFill>
                <a:latin typeface="华文中宋"/>
                <a:ea typeface="华文中宋"/>
              </a:rPr>
              <a:t>日，国务院办公厅印发</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关于加快新能源汽车推广应用的指导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为贯彻落实</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指导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对交通运输行业的具体要求，</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3</a:t>
            </a:r>
            <a:r>
              <a:rPr b="0" lang="zh-CN" sz="2000" spc="-1" strike="noStrike">
                <a:solidFill>
                  <a:srgbClr val="333399"/>
                </a:solidFill>
                <a:latin typeface="华文中宋"/>
                <a:ea typeface="华文中宋"/>
              </a:rPr>
              <a:t>月</a:t>
            </a:r>
            <a:r>
              <a:rPr b="0" lang="en-US" sz="2000" spc="-1" strike="noStrike">
                <a:solidFill>
                  <a:srgbClr val="333399"/>
                </a:solidFill>
                <a:latin typeface="华文中宋"/>
                <a:ea typeface="华文中宋"/>
              </a:rPr>
              <a:t>13</a:t>
            </a:r>
            <a:r>
              <a:rPr b="0" lang="zh-CN" sz="2000" spc="-1" strike="noStrike">
                <a:solidFill>
                  <a:srgbClr val="333399"/>
                </a:solidFill>
                <a:latin typeface="华文中宋"/>
                <a:ea typeface="华文中宋"/>
              </a:rPr>
              <a:t>日，交通运输部印发</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关于加快推进新能源汽车在交通运输行业推广应用的实施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实施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确定的总体目标是：至</a:t>
            </a:r>
            <a:r>
              <a:rPr b="0" lang="en-US" sz="2000" spc="-1" strike="noStrike">
                <a:solidFill>
                  <a:srgbClr val="333399"/>
                </a:solidFill>
                <a:latin typeface="华文中宋"/>
                <a:ea typeface="华文中宋"/>
              </a:rPr>
              <a:t>2020</a:t>
            </a:r>
            <a:r>
              <a:rPr b="0" lang="zh-CN" sz="2000" spc="-1" strike="noStrike">
                <a:solidFill>
                  <a:srgbClr val="333399"/>
                </a:solidFill>
                <a:latin typeface="华文中宋"/>
                <a:ea typeface="华文中宋"/>
              </a:rPr>
              <a:t>年，新能源汽车在交通运输行业的应用初具规模，在城市公交、出租汽车和城市物流配送等领域的总量达到</a:t>
            </a:r>
            <a:r>
              <a:rPr b="0" lang="en-US" sz="2000" spc="-1" strike="noStrike">
                <a:solidFill>
                  <a:srgbClr val="333399"/>
                </a:solidFill>
                <a:latin typeface="华文中宋"/>
                <a:ea typeface="华文中宋"/>
              </a:rPr>
              <a:t>30</a:t>
            </a:r>
            <a:r>
              <a:rPr b="0" lang="zh-CN" sz="2000" spc="-1" strike="noStrike">
                <a:solidFill>
                  <a:srgbClr val="333399"/>
                </a:solidFill>
                <a:latin typeface="华文中宋"/>
                <a:ea typeface="华文中宋"/>
              </a:rPr>
              <a:t>万辆；新能源汽车配套服务设施基本完备，新能源汽车运营效率和安全水平明显提升。为确保总体目标实现， </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实施意见</a:t>
            </a:r>
            <a:r>
              <a:rPr b="0" lang="en-US" sz="2000" spc="-1" strike="noStrike">
                <a:solidFill>
                  <a:srgbClr val="333399"/>
                </a:solidFill>
                <a:latin typeface="华文中宋"/>
                <a:ea typeface="华文中宋"/>
              </a:rPr>
              <a:t>》</a:t>
            </a:r>
            <a:r>
              <a:rPr b="0" lang="zh-CN" sz="2000" spc="-1" strike="noStrike">
                <a:solidFill>
                  <a:srgbClr val="333399"/>
                </a:solidFill>
                <a:latin typeface="华文中宋"/>
                <a:ea typeface="华文中宋"/>
              </a:rPr>
              <a:t>提出加强规划引领、完善实施方案、严格新能源汽车技术选型、推动完善充换电设施、推动落实扶持政策、完善新能源汽车运营政策、创新推广应用模式、加强安全和应急管理等八项主要任务，以及具体的保障措施。同时，自去年以来，交通运输部围绕加快新能源汽车推广应用还制定了其他政策措施。因此，有必要对涉及交通运输行业推广应用新能源汽车的政策进行综合分析，并提出有关建议。</a:t>
            </a:r>
            <a:endParaRPr b="0" lang="en-US" sz="20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CE48-8CFB-45F4-889B-488EEB8721B6}"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总体目标的具体体现</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总体目标具体体现在以下三点：一是应用规模显著扩大。新能源汽车占城市公交车、出租汽车和城市物流配送车辆的比例显著提升，充换电配套设施服务更加完善。公交都市创建城市新增或更新城市公交车、出租汽车和城市物流配送车辆中，新能源汽车比例不低于</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京津冀地区不低于</a:t>
            </a:r>
            <a:r>
              <a:rPr b="0" lang="en-US" sz="1900" spc="-1" strike="noStrike">
                <a:solidFill>
                  <a:srgbClr val="333399"/>
                </a:solidFill>
                <a:latin typeface="华文中宋"/>
                <a:ea typeface="华文中宋"/>
              </a:rPr>
              <a:t>35%</a:t>
            </a:r>
            <a:r>
              <a:rPr b="0" lang="zh-CN" sz="1900" spc="-1" strike="noStrike">
                <a:solidFill>
                  <a:srgbClr val="333399"/>
                </a:solidFill>
                <a:latin typeface="华文中宋"/>
                <a:ea typeface="华文中宋"/>
              </a:rPr>
              <a:t>。到</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新能源城市公交车达到</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万辆，新能源出租汽车和城市物流配送车辆共达到</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万辆。二是使用效果显著提升。新能源汽车在交通运输行业的运营效率明显提升，纯电动汽车运营效率不低于同车长燃油车辆的</a:t>
            </a:r>
            <a:r>
              <a:rPr b="0" lang="en-US" sz="1900" spc="-1" strike="noStrike">
                <a:solidFill>
                  <a:srgbClr val="333399"/>
                </a:solidFill>
                <a:latin typeface="华文中宋"/>
                <a:ea typeface="华文中宋"/>
              </a:rPr>
              <a:t>85%</a:t>
            </a:r>
            <a:r>
              <a:rPr b="0" lang="zh-CN" sz="1900" spc="-1" strike="noStrike">
                <a:solidFill>
                  <a:srgbClr val="333399"/>
                </a:solidFill>
                <a:latin typeface="华文中宋"/>
                <a:ea typeface="华文中宋"/>
              </a:rPr>
              <a:t>。投入交通运输行业的新能源汽车可靠性显著增强，车辆故障率明显降低。三是可持续发展能力显著提升。新能源汽车在交通运输行业推广应用的法规政策和标准规范体系基本建立，可持续发展的机制比较完善；新能源汽车购买、运营、维护成本显著下降，交通运输企业购买使用新能源汽车的主动性明显增强。</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D9E1-E9C0-40C0-AE70-4CD0B7141B40}"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主要任务（</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确定的主要任务有以下八项：一是加强规划引领。结合城市经济社会发展特点、城市交通发展和居民出行需要，将新能源汽车推广应用纳入城市公共交通规划和城市综合交通运输体系规划，明确新能源汽车推广应用目标、技术路线、重点任务和配套政策，并按照“适度超前、科学布局”的原则，提出充换电设施总量和布局需求。二是完善实施方案。按照“统筹规划、分步实施”原则，编制交通运输行业新能源汽车推广应用实施方案和年度实施计划，并合理确定车型和运力规模。三是</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严格新能源汽车技术选型。结合本地城市交通通行和公交线网、出租汽车车型结构、城市物流配送通行管理状况，科学选择新能源汽车车型。明确新能源汽车必须符合国家有关技术标准和行业标准。四是推动完善充换电设施。鼓励和支持社会资本进入交通运输行业新能源汽车充换电设施建设和运营、整车租赁、电池租赁和回收等服务领域。</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9AEF-D270-486F-B7C1-3AC9BF7236E3}"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实施意见》确定的主要任务（</a:t>
            </a:r>
            <a:r>
              <a:rPr b="0" lang="en-US" sz="1900" spc="-1" strike="noStrike">
                <a:solidFill>
                  <a:srgbClr val="333399"/>
                </a:solidFill>
                <a:latin typeface="华文中宋"/>
                <a:ea typeface="华文中宋"/>
              </a:rPr>
              <a:t>2</a:t>
            </a:r>
            <a:r>
              <a:rPr b="0" lang="en-US"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五是推动落实扶持政策。积极配合同级财政、税务等部门，做好车辆购置税优惠政策落实工作，并制定本地区新能源汽车推广应用的支持政策，在新能源汽车购置补贴、贷款贴息、运营补贴、充换电基础设施维护、推广应用宣传及科研补助等方面给予必要的支持。要配合做好城市公交车成品油价格补贴政策改革，积极落实相关政策要求，将补贴额度与新能源公交车推广目标完成情况相挂钩，形成鼓励新能源公交车应用、限制燃油公交车增长的机制。积极配合有关部门，推动落实新能源汽车车船税优惠政策、消费税政策、充换电设施用地政策和用电价格优惠政策。六是完善新能源汽车运营政策。城市公交车、出租汽车运营权优先授予新能源汽车，并向新能源汽车推广应用程度高的交通运输企业倾斜或成立专门的新能源汽车运输企业。争取当地人民政府支持，对新能源汽车不限行、不限购，对新能源出租汽车的运营权指标适当放宽。</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142A-CA58-46D1-AB12-C7F4FDC89F50}"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主要任务（</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七是创新推广应用模式。在交通运输行业研究完善新能源公交车“融资租赁”、“车电分离”和“以租代售”等多种运营模式。鼓励纯电动汽车生产企业或专门的充换电设施运营企业，推行纯电动公交车电池租赁；鼓励新能源汽车生产企业或融资租赁经营企业，推行新能源公交车整车租赁，降低公交企业一次性购买支出。八是加强安全和应急管理。督促相关交通运输企业落实安全生产主体责任，切实加强对所属驾驶员、乘务员和车辆的管理。加强新能源汽车运营安全监控；在新能源公交车、出租汽车上加快安装实时监控装置，并建立新能源汽车运行数据采集和统计分析系统，为新能源汽车安全运行提供基础支撑；建立健全新能源汽车定期检查、维护和修理制度，加强新能源汽车技术管理，建立新能源汽车全生命周期运营档案。制定新能源汽车抛锚、运营周转不畅、恶劣天气、客流激增下的应急处置程序和措施，提高应急处置能力。</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A997-8036-417D-B3C6-844464E52382}"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实施意见》确定的保障措施（</a:t>
            </a:r>
            <a:r>
              <a:rPr b="0" lang="en-US" sz="1900" spc="-1" strike="noStrike">
                <a:solidFill>
                  <a:srgbClr val="333399"/>
                </a:solidFill>
                <a:latin typeface="华文中宋"/>
                <a:ea typeface="华文中宋"/>
              </a:rPr>
              <a:t>1</a:t>
            </a:r>
            <a:r>
              <a:rPr b="0" lang="en-US"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确定的保障措施有以下六项：一是加强组织领导。推动细化新能源汽车在交通运输行业推广应用的支持政策和配套措施，推进政策落实。加快制定交通运输行业贯彻落实《指导意见》的具体实施意见和行动计划。二是加强法规制度和标准规范建设。积极推动城市公共交通、出租汽车和城市物流配送相关法规制度建设，为新能源汽车推广应用的方案编制、设施建设、车辆准入、驾驶员培训、安全管理和政策支持提供法制保障。加强新能源汽车推广应用技术支撑，研究制定新能源公交车、出租汽车、城市物流配送和邮政快递车辆技术准入和退出的标准规范、车辆和特有部件（电池等）维修服务规范等，建立完善新能源汽车使用环节的技术标准规范体系。三是加强技术保障。按照国家和行业有关标准要求，加强新能源汽车日常维护工作，保障车辆技术性能。建立交通运输行业新能源汽车应用效果评估和反馈机制。建立新能源汽车召回机制。</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123C-281D-4113-96D2-45F3B2F8AC0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360" y="152280"/>
            <a:ext cx="106678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关于《实施意见》的政策要点分析</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保障措施（</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四是加强人才保障。重视发展职业教育和岗位技能培训，加大新能源汽车工程技术人员和专业技能人才的培养。开展对经营管理、车辆驾驶、维修保养、运营调度、应急管理等从业人员的专业技术培训，为新能源汽车的安全运营和管理提供人才保障。五是加强监督检查。各省级交通运输主管部门要加强对本辖区内各城市新能源公交车、出租汽车、城市物流配送车辆的推广应用情况的监督检查，全面评价推广应用目标完成情况、基础设施网络配套情况，并分别于每年</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月底和</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底前向交通运输部报送新能源汽车推广应用情况，交通运输部将适时组织对各省、自治区、直辖市在交通运输行业推广应用新能源汽车的情况进行监督检查。六是加强舆论宣传和引导。大力宣传新能源汽车推广应用在环境改善、能源节约等方面的显著效果和重大作用。形成有利于新能源汽车大规模推广应用的良好氛围。</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D96B-B421-4CA2-95EE-8E2844239D1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yanghua</cp:lastModifiedBy>
  <dcterms:modified xsi:type="dcterms:W3CDTF">2015-08-07T06:32:18Z</dcterms:modified>
  <cp:revision>741</cp:revision>
  <dc:subject/>
  <dc:title>Presentation Title</dc:title>
</cp:coreProperties>
</file>