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A082E-99EB-4A84-914D-4D5D8B83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9ADF-6689-4438-85FA-7DE9F25B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7B7E2-4C14-42A1-AAAC-0ABC4D32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7BD1E-BD9D-4F54-AE55-6C94FDA6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97DC-2232-4991-93AC-A56D24A7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BCEF-65EF-47E9-9686-038CCA38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C397-CE82-43E6-BA05-5A83D453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0395-7D25-4C8B-9C58-62399C57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7D0B-EC90-4E4A-88FD-97760446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05AE-FD2B-4A6C-80C2-D1590E75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A4F0-9D40-4C49-8A71-E1D66CED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02A8F-6C1F-4A65-8102-2426327F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F423-64C2-4412-BE81-AA91C84E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2066-A586-4ACC-B1B6-B1EFE452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62F9-EF4A-4DFB-8102-715D7A1C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4FAA-0C07-4D11-BF2A-D1EA1936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66D3-4BD6-4B5E-BFA7-ED1AB5C7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9726-7E5E-441D-8C03-695E9000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8CAFC-BE90-4E03-BA6A-079F48DF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EADEB-C293-44F6-B788-EA980A1B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7267E-2364-445B-A4A9-DF0B8FB4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10520-8C84-41D4-80F6-0F0F7CA7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93A59-D196-402C-9F2E-CAE77DAD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6AE15-141B-48A8-9042-D57A0A8E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FD70-3FCC-43FB-8C1A-7ACD36EB5FE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" name="Rectangle 17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ftr" idx="3"/>
          </p:nvPr>
        </p:nvSpPr>
        <p:spPr>
          <a:xfrm>
            <a:off x="76176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5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6251117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26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AutoShape 1027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1" name="Group 1029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1030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1031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5AC1-B38B-41FE-A844-1710C81FC5C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34"/>
          <p:cNvSpPr/>
          <p:nvPr/>
        </p:nvSpPr>
        <p:spPr>
          <a:xfrm>
            <a:off x="9360" y="6358680"/>
            <a:ext cx="58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96C0-D5EF-4A1E-B818-286236DBEAB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2015</a:t>
            </a:r>
            <a:r>
              <a:rPr b="1" lang="zh-CN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年</a:t>
            </a:r>
            <a:r>
              <a:rPr b="1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9</a:t>
            </a:r>
            <a:r>
              <a:rPr b="1" lang="zh-CN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月上海汽车市场上牌情况</a:t>
            </a:r>
            <a:br>
              <a:rPr sz="3600"/>
            </a:br>
            <a:r>
              <a:rPr b="1" lang="zh-CN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及上海市场消费特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46520" y="3644640"/>
            <a:ext cx="3741840" cy="11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华文楷体"/>
                <a:ea typeface="华文楷体"/>
              </a:rPr>
              <a:t>上海市信息中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华文楷体"/>
                <a:ea typeface="华文楷体"/>
              </a:rPr>
              <a:t>汽车产业研究室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A20D-ED48-44CB-AAF6-5ED2A4DBD20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15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月上海各车型</a:t>
            </a:r>
            <a:r>
              <a:rPr b="1" lang="zh-CN" sz="3200" spc="-1" strike="noStrike">
                <a:solidFill>
                  <a:srgbClr val="006666"/>
                </a:solidFill>
                <a:latin typeface="宋体"/>
              </a:rPr>
              <a:t>上牌量同比情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Rectangle 1028"/>
          <p:cNvSpPr/>
          <p:nvPr/>
        </p:nvSpPr>
        <p:spPr>
          <a:xfrm>
            <a:off x="2584440" y="48096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1035"/>
          <p:cNvSpPr/>
          <p:nvPr/>
        </p:nvSpPr>
        <p:spPr>
          <a:xfrm>
            <a:off x="2584440" y="101916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1042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Rectangle 1049"/>
          <p:cNvSpPr/>
          <p:nvPr/>
        </p:nvSpPr>
        <p:spPr>
          <a:xfrm>
            <a:off x="2584440" y="83664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Rectangle 1056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ectangle 1063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1070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Rectangle 1077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2362320"/>
          <a:ext cx="6608880" cy="3938400"/>
        </p:xfrm>
        <a:graphic>
          <a:graphicData uri="http://schemas.openxmlformats.org/drawingml/2006/table">
            <a:tbl>
              <a:tblPr/>
              <a:tblGrid>
                <a:gridCol w="1353960"/>
                <a:gridCol w="1051200"/>
                <a:gridCol w="1050840"/>
                <a:gridCol w="1050840"/>
                <a:gridCol w="1050840"/>
                <a:gridCol w="1051200"/>
              </a:tblGrid>
              <a:tr h="69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类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环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9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9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进口小客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（含轿车）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4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.3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.7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41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.1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国产轿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35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.0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.4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2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.2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小型客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（除轿车）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8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.3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.9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7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.7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大型客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.9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.0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3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.6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小型货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.1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7.0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2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.9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大型货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.5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.7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4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.3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3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.4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.3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79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.5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481B-A6EB-44C1-9AB8-6701BD68181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1125360"/>
            <a:ext cx="800100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近两年上海车辆月度上牌数累计情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Rectangle 2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27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2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Rectangle 33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3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4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19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ectangle 20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Rectangle 203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2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762120" y="1965240"/>
            <a:ext cx="1090440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36"/>
          <p:cNvSpPr/>
          <p:nvPr/>
        </p:nvSpPr>
        <p:spPr>
          <a:xfrm>
            <a:off x="790560" y="2297160"/>
            <a:ext cx="8088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图片 1" descr=""/>
          <p:cNvPicPr/>
          <p:nvPr/>
        </p:nvPicPr>
        <p:blipFill>
          <a:blip r:embed="rId1"/>
          <a:stretch/>
        </p:blipFill>
        <p:spPr>
          <a:xfrm>
            <a:off x="812880" y="2336760"/>
            <a:ext cx="68580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F114-C7CB-487B-8BE0-A78F2D4C44B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近两年上海车辆月度上牌数量情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2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3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38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539640" y="1976400"/>
            <a:ext cx="95122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Rectangle 32"/>
          <p:cNvSpPr/>
          <p:nvPr/>
        </p:nvSpPr>
        <p:spPr>
          <a:xfrm>
            <a:off x="-1114560" y="2325600"/>
            <a:ext cx="5429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图片 1" descr=""/>
          <p:cNvPicPr/>
          <p:nvPr/>
        </p:nvPicPr>
        <p:blipFill>
          <a:blip r:embed="rId1"/>
          <a:stretch/>
        </p:blipFill>
        <p:spPr>
          <a:xfrm>
            <a:off x="876240" y="2344680"/>
            <a:ext cx="68770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61DB-5319-454B-B982-2A4A509FA55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15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6666"/>
                </a:solidFill>
                <a:latin typeface="宋体"/>
              </a:rPr>
              <a:t>上海上牌进口车来源国情况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00000" y="2421000"/>
          <a:ext cx="6678720" cy="3678120"/>
        </p:xfrm>
        <a:graphic>
          <a:graphicData uri="http://schemas.openxmlformats.org/drawingml/2006/table">
            <a:tbl>
              <a:tblPr/>
              <a:tblGrid>
                <a:gridCol w="1209960"/>
                <a:gridCol w="1093680"/>
                <a:gridCol w="1093680"/>
                <a:gridCol w="1093680"/>
                <a:gridCol w="1094040"/>
                <a:gridCol w="1093680"/>
              </a:tblGrid>
              <a:tr h="694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国别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环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9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9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12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德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.0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.4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4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.6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日本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.1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.4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0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.9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美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.7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.4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.7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英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.8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.1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5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.2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意大利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.1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.2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.2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瑞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.4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66.7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0.1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法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.7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.6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7.9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韩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.2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3.8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2.1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捷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.5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.0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3.8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4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.3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.7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41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.1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CC96-8FD9-404C-B2EA-1158FFB0665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15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6666"/>
                </a:solidFill>
                <a:latin typeface="宋体"/>
              </a:rPr>
              <a:t>上海国产轿车分类型上牌情况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14400" y="2362320"/>
          <a:ext cx="6603840" cy="3790800"/>
        </p:xfrm>
        <a:graphic>
          <a:graphicData uri="http://schemas.openxmlformats.org/drawingml/2006/table">
            <a:tbl>
              <a:tblPr/>
              <a:tblGrid>
                <a:gridCol w="1333440"/>
                <a:gridCol w="1054080"/>
                <a:gridCol w="1054080"/>
                <a:gridCol w="1054080"/>
                <a:gridCol w="1054080"/>
                <a:gridCol w="105408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类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环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9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9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豪华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7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.0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.4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2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.5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中高级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1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.7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.2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8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.0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中级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.7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.3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52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.9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普及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2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.6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.6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75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.0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微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.1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.7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8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.0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35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.0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.4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2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.2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53EC-497A-4A70-BFE4-F16D908BE60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15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月</a:t>
            </a:r>
            <a:r>
              <a:rPr b="1" lang="zh-CN" sz="3100" spc="-1" strike="noStrike">
                <a:solidFill>
                  <a:srgbClr val="006666"/>
                </a:solidFill>
                <a:latin typeface="Arial"/>
              </a:rPr>
              <a:t>上海国产小客车分类型上牌情况</a:t>
            </a:r>
            <a:endParaRPr b="1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43120" y="2421000"/>
          <a:ext cx="6681600" cy="3446280"/>
        </p:xfrm>
        <a:graphic>
          <a:graphicData uri="http://schemas.openxmlformats.org/drawingml/2006/table">
            <a:tbl>
              <a:tblPr/>
              <a:tblGrid>
                <a:gridCol w="1506240"/>
                <a:gridCol w="1035360"/>
                <a:gridCol w="1035000"/>
                <a:gridCol w="1035000"/>
                <a:gridCol w="1035000"/>
                <a:gridCol w="103500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类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环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9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9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55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PV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8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.7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.3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92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.2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V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9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.3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.5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54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.3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一般小客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0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.0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.8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27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.3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8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.3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.9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7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.7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CCE1-67F7-4494-8949-E779D4957D4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上海市汽车统计报表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26920" y="2317680"/>
          <a:ext cx="6624720" cy="4022640"/>
        </p:xfrm>
        <a:graphic>
          <a:graphicData uri="http://schemas.openxmlformats.org/drawingml/2006/table">
            <a:tbl>
              <a:tblPr/>
              <a:tblGrid>
                <a:gridCol w="360360"/>
                <a:gridCol w="1800360"/>
                <a:gridCol w="1079640"/>
                <a:gridCol w="1081080"/>
                <a:gridCol w="863640"/>
                <a:gridCol w="1439640"/>
              </a:tblGrid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年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年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增减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增减百分比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335160">
                <a:tc row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大型汽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客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17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99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.0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货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250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39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9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.4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专用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2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9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6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小计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88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598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9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.1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35160">
                <a:tc row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小型汽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客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1450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9251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00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.3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货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47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89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6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专用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0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其中郊区小客车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793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109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16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.8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小计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8989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6832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3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.2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3516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其它车辆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27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19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.1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汽车总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4205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2450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5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.0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34"/>
          <p:cNvSpPr/>
          <p:nvPr/>
        </p:nvSpPr>
        <p:spPr>
          <a:xfrm>
            <a:off x="9360" y="6358680"/>
            <a:ext cx="58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8FC3-D2D2-4111-9C43-F50EBD355FE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The  End</a:t>
            </a:r>
            <a:r>
              <a:rPr b="1" lang="zh-CN" sz="6000" spc="-1" strike="noStrike">
                <a:solidFill>
                  <a:srgbClr val="003366"/>
                </a:solidFill>
                <a:latin typeface="Arial"/>
              </a:rPr>
              <a:t>！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66"/>
                </a:solidFill>
                <a:latin typeface="Arial"/>
              </a:rPr>
              <a:t>谢谢！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4:51:24Z</dcterms:created>
  <dc:creator>Rafael</dc:creator>
  <dc:description/>
  <dc:language>en-US</dc:language>
  <cp:lastModifiedBy>xiefei</cp:lastModifiedBy>
  <dcterms:modified xsi:type="dcterms:W3CDTF">2015-10-08T01:29:01Z</dcterms:modified>
  <cp:revision>493</cp:revision>
  <dc:subject/>
  <dc:title>上海市信息中心汽车产业研究室</dc:title>
</cp:coreProperties>
</file>