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A40-5ED4-48F6-A1E5-6788DE0A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127-D65B-4EC2-912E-33D72928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D24-A64E-4B53-A5D9-AE0F162A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577-C0BE-45D4-A457-54BAB2E6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F57-0CF0-4F80-B75C-4C929B5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6C9-2430-43A0-A8E9-15FEF67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99E-1B8E-4AF8-856C-45AACA6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46D-0A13-43D1-B48E-16AF3F8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EAE-7233-4AAD-8AFA-A23FBB78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24F-6AB3-4FD2-8DD6-B472641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82F-E4CA-4F27-A4B8-A7CD512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C12-1E1A-4FE3-8395-E85DD19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A8B-85AA-4EAE-B84F-A111F51F4E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06:08:42Z</dcterms:created>
  <dc:creator>Thinkpad</dc:creator>
  <dc:description/>
  <dc:language>en-US</dc:language>
  <cp:lastModifiedBy>Thinkpad</cp:lastModifiedBy>
  <dcterms:modified xsi:type="dcterms:W3CDTF">2015-12-07T06:20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