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DA73-54D3-4C06-B3A0-8E9BC37D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DEE0-7F02-4F10-AD8E-B691742D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4401-9C08-4E19-B05A-3CB5C087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0310-152E-4D07-9496-DD3A7A49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02AE-1B3C-43F0-A3FC-9A59E789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E352-93FD-462D-90A6-FE6D55F7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24F7-7DEC-4376-8024-CEA440A4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6F5-BB05-4ECC-90C4-A99709FF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D6FE-C384-41B1-8D5A-1C64EE0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6D4-30DA-4A5E-84B3-C23B7D86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7688-3BE9-429E-B97F-E0A9D0F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8CEE-ED23-4B26-B4FC-00C3630D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B9A4-9AB0-4B9E-8CC2-36958EFF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8B4A-B97F-40B3-944C-258B7F9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8AA6-BD86-4F3A-B866-C6204CC2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17E3-E152-4EA8-A2BD-ECAC966E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BC64-F1E5-4A7F-BF1C-F7A65DFD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6077-17BF-4214-AE4C-4B3F5E76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D361-F336-4CC1-A7F5-CB8AA43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D578-8250-4743-A300-7A766A7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CDED-9070-44CF-A03C-B3B6B3A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B9E3-8139-4C69-A75E-9C7A86F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6E0E-EA10-44D3-B710-9FC5F61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51F9-3628-4A64-A0EB-36F2280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0AEE-AF02-4D81-BA87-81A3759D7A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Rectangle 1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76176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51117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AutoShape 102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459-129C-4F96-B365-E98BDAA41D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D9D-6BD1-43CF-A778-9DEE8B884A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015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年</a:t>
            </a: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月上海汽车市场上牌情况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及上海市场消费特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6520" y="3644640"/>
            <a:ext cx="374184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上海市信息中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汽车产业研究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BCA2-8EB9-45BF-97EF-C0E0D2EBDB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上海各车型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牌量同比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1028"/>
          <p:cNvSpPr/>
          <p:nvPr/>
        </p:nvSpPr>
        <p:spPr>
          <a:xfrm>
            <a:off x="2584440" y="4809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2584440" y="10191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1042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49"/>
          <p:cNvSpPr/>
          <p:nvPr/>
        </p:nvSpPr>
        <p:spPr>
          <a:xfrm>
            <a:off x="2584440" y="83664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56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063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70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077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362320"/>
          <a:ext cx="6608880" cy="3938400"/>
        </p:xfrm>
        <a:graphic>
          <a:graphicData uri="http://schemas.openxmlformats.org/drawingml/2006/table">
            <a:tbl>
              <a:tblPr/>
              <a:tblGrid>
                <a:gridCol w="1353960"/>
                <a:gridCol w="1051200"/>
                <a:gridCol w="1050840"/>
                <a:gridCol w="1050840"/>
                <a:gridCol w="1050840"/>
                <a:gridCol w="1051200"/>
              </a:tblGrid>
              <a:tr h="69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进口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含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89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.0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产轿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6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46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除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.2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469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.5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6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9.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5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6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.9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.7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.9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2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.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3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.7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.4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5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.1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223-1517-4AA5-A651-53F39B7638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125360"/>
            <a:ext cx="80010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累计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9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0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20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762120" y="1965240"/>
            <a:ext cx="109044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790560" y="2297160"/>
            <a:ext cx="808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814320" y="2406600"/>
            <a:ext cx="6858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8ACD-5FE7-4FBC-A50D-67F2ABF824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量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39640" y="1976400"/>
            <a:ext cx="9512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-1114560" y="2325600"/>
            <a:ext cx="5429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852480" y="2395440"/>
            <a:ext cx="6924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15D-AB36-403C-95E7-2A3B798BE1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上牌进口车来源国情况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00000" y="2421000"/>
          <a:ext cx="6678720" cy="3678120"/>
        </p:xfrm>
        <a:graphic>
          <a:graphicData uri="http://schemas.openxmlformats.org/drawingml/2006/table">
            <a:tbl>
              <a:tblPr/>
              <a:tblGrid>
                <a:gridCol w="1209960"/>
                <a:gridCol w="1093680"/>
                <a:gridCol w="1093680"/>
                <a:gridCol w="1093680"/>
                <a:gridCol w="1094040"/>
                <a:gridCol w="1093680"/>
              </a:tblGrid>
              <a:tr h="69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德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8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.7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8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.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6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1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7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.3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8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.1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.4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2.5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1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瑞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.4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2.9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2.5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意大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.3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8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.2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7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8.6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9.7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3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捷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3.3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1.8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89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.0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533-1566-42A4-B063-6C54BB85E5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国产轿车分类型上牌情况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2362320"/>
          <a:ext cx="6603840" cy="3790800"/>
        </p:xfrm>
        <a:graphic>
          <a:graphicData uri="http://schemas.openxmlformats.org/drawingml/2006/table">
            <a:tbl>
              <a:tblPr/>
              <a:tblGrid>
                <a:gridCol w="1333440"/>
                <a:gridCol w="1054080"/>
                <a:gridCol w="1054080"/>
                <a:gridCol w="1054080"/>
                <a:gridCol w="1054080"/>
                <a:gridCol w="10540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豪华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.2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.9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04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高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.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86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3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.6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普及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.4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7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微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.0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6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46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AC0F-875A-4F09-9E41-8214620B8A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100" spc="-1" strike="noStrike">
                <a:solidFill>
                  <a:srgbClr val="006666"/>
                </a:solidFill>
                <a:latin typeface="Arial"/>
              </a:rPr>
              <a:t>上海国产小客车分类型上牌情况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43120" y="2421000"/>
          <a:ext cx="6681600" cy="3446280"/>
        </p:xfrm>
        <a:graphic>
          <a:graphicData uri="http://schemas.openxmlformats.org/drawingml/2006/table">
            <a:tbl>
              <a:tblPr/>
              <a:tblGrid>
                <a:gridCol w="1506240"/>
                <a:gridCol w="1035360"/>
                <a:gridCol w="1035000"/>
                <a:gridCol w="1035000"/>
                <a:gridCol w="1035000"/>
                <a:gridCol w="10350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P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8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.5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2.6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9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.5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.5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.4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5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.9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一般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.2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3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24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.2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469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5F22-1B10-400B-93A6-A51CC9E2E3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e  End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66"/>
                </a:solidFill>
                <a:latin typeface="Arial"/>
              </a:rPr>
              <a:t>谢谢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4:51:24Z</dcterms:created>
  <dc:creator>Rafael</dc:creator>
  <dc:description/>
  <dc:language>en-US</dc:language>
  <cp:lastModifiedBy>xiefei</cp:lastModifiedBy>
  <dcterms:modified xsi:type="dcterms:W3CDTF">2015-12-03T08:11:41Z</dcterms:modified>
  <cp:revision>495</cp:revision>
  <dc:subject/>
  <dc:title>上海市信息中心汽车产业研究室</dc:title>
</cp:coreProperties>
</file>