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05FD-6B79-454C-9A92-18B63BAD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5FBB-16B7-430E-9F1B-6E4B0452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E0A-4C52-4AF4-899C-6C0A5479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382-3C11-4EE4-83EF-8FC120E3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98D-69D0-4B81-8BDF-80DEDC4C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E1D7-FB5A-483D-AE21-7BB23AEE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C98-6758-45A5-B780-A198CEFC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93B6-4BF5-4842-8ED5-926CC744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56D-E15D-4447-8744-55CAA83B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8C5-614A-4A77-BFAF-53EF07A3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870-C8F3-4934-93FE-27E20C31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181-2D09-45D6-8B84-F489841D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BE54-40FD-4251-97FD-1097BD25EF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威尔森：2015年11月广州市场观察月报-20151203-1"/>
          <p:cNvPicPr/>
          <p:nvPr/>
        </p:nvPicPr>
        <p:blipFill>
          <a:blip r:embed="rId1"/>
          <a:stretch/>
        </p:blipFill>
        <p:spPr>
          <a:xfrm>
            <a:off x="7920" y="6480"/>
            <a:ext cx="91281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威尔森：2015年11月广州市场观察月报-20151203-10"/>
          <p:cNvPicPr/>
          <p:nvPr/>
        </p:nvPicPr>
        <p:blipFill>
          <a:blip r:embed="rId1"/>
          <a:stretch/>
        </p:blipFill>
        <p:spPr>
          <a:xfrm>
            <a:off x="22320" y="17640"/>
            <a:ext cx="9099360" cy="68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威尔森：2015年11月广州市场观察月报-20151203-11"/>
          <p:cNvPicPr/>
          <p:nvPr/>
        </p:nvPicPr>
        <p:blipFill>
          <a:blip r:embed="rId1"/>
          <a:stretch/>
        </p:blipFill>
        <p:spPr>
          <a:xfrm>
            <a:off x="41400" y="30240"/>
            <a:ext cx="906120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威尔森：2015年11月广州市场观察月报-20151203-12"/>
          <p:cNvPicPr/>
          <p:nvPr/>
        </p:nvPicPr>
        <p:blipFill>
          <a:blip r:embed="rId1"/>
          <a:stretch/>
        </p:blipFill>
        <p:spPr>
          <a:xfrm>
            <a:off x="38160" y="28440"/>
            <a:ext cx="906768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威尔森：2015年11月广州市场观察月报-20151203-13"/>
          <p:cNvPicPr/>
          <p:nvPr/>
        </p:nvPicPr>
        <p:blipFill>
          <a:blip r:embed="rId1"/>
          <a:stretch/>
        </p:blipFill>
        <p:spPr>
          <a:xfrm>
            <a:off x="6480" y="4680"/>
            <a:ext cx="91310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威尔森：2015年11月广州市场观察月报-20151203-14"/>
          <p:cNvPicPr/>
          <p:nvPr/>
        </p:nvPicPr>
        <p:blipFill>
          <a:blip r:embed="rId1"/>
          <a:stretch/>
        </p:blipFill>
        <p:spPr>
          <a:xfrm>
            <a:off x="77760" y="57240"/>
            <a:ext cx="89899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" descr="威尔森：2015年11月广州市场观察月报-20151203-2"/>
          <p:cNvPicPr/>
          <p:nvPr/>
        </p:nvPicPr>
        <p:blipFill>
          <a:blip r:embed="rId1"/>
          <a:stretch/>
        </p:blipFill>
        <p:spPr>
          <a:xfrm>
            <a:off x="41400" y="31680"/>
            <a:ext cx="90612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威尔森：2015年11月广州市场观察月报-20151203-3"/>
          <p:cNvPicPr/>
          <p:nvPr/>
        </p:nvPicPr>
        <p:blipFill>
          <a:blip r:embed="rId1"/>
          <a:stretch/>
        </p:blipFill>
        <p:spPr>
          <a:xfrm>
            <a:off x="28440" y="20520"/>
            <a:ext cx="908712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威尔森：2015年11月广州市场观察月报-20151203-4"/>
          <p:cNvPicPr/>
          <p:nvPr/>
        </p:nvPicPr>
        <p:blipFill>
          <a:blip r:embed="rId1"/>
          <a:stretch/>
        </p:blipFill>
        <p:spPr>
          <a:xfrm>
            <a:off x="28440" y="20520"/>
            <a:ext cx="908712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威尔森：2015年11月广州市场观察月报-20151203-5"/>
          <p:cNvPicPr/>
          <p:nvPr/>
        </p:nvPicPr>
        <p:blipFill>
          <a:blip r:embed="rId1"/>
          <a:stretch/>
        </p:blipFill>
        <p:spPr>
          <a:xfrm>
            <a:off x="58680" y="44280"/>
            <a:ext cx="902664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威尔森：2015年11月广州市场观察月报-20151203-6"/>
          <p:cNvPicPr/>
          <p:nvPr/>
        </p:nvPicPr>
        <p:blipFill>
          <a:blip r:embed="rId1"/>
          <a:stretch/>
        </p:blipFill>
        <p:spPr>
          <a:xfrm>
            <a:off x="69840" y="52560"/>
            <a:ext cx="9004320" cy="67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威尔森：2015年11月广州市场观察月报-20151203-7"/>
          <p:cNvPicPr/>
          <p:nvPr/>
        </p:nvPicPr>
        <p:blipFill>
          <a:blip r:embed="rId1"/>
          <a:stretch/>
        </p:blipFill>
        <p:spPr>
          <a:xfrm>
            <a:off x="69840" y="52560"/>
            <a:ext cx="9004320" cy="67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威尔森：2015年11月广州市场观察月报-20151203-8"/>
          <p:cNvPicPr/>
          <p:nvPr/>
        </p:nvPicPr>
        <p:blipFill>
          <a:blip r:embed="rId1"/>
          <a:stretch/>
        </p:blipFill>
        <p:spPr>
          <a:xfrm>
            <a:off x="1440" y="144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威尔森：2015年11月广州市场观察月报-20151203-9"/>
          <p:cNvPicPr/>
          <p:nvPr/>
        </p:nvPicPr>
        <p:blipFill>
          <a:blip r:embed="rId1"/>
          <a:stretch/>
        </p:blipFill>
        <p:spPr>
          <a:xfrm>
            <a:off x="-38160" y="-65160"/>
            <a:ext cx="920124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3T04:32:18Z</dcterms:created>
  <dc:creator>Administrator</dc:creator>
  <dc:description/>
  <dc:language>en-US</dc:language>
  <cp:lastModifiedBy>Administrator</cp:lastModifiedBy>
  <dcterms:modified xsi:type="dcterms:W3CDTF">2015-12-03T04:43:31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