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126C-3683-469D-A2C9-A657B6EC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345F-62D9-4012-B611-DF5DFC75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AF9F-5DC6-4C86-9E21-203626C9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A992-B863-46CE-9794-EF19164A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3A0-5A1B-4A7D-80C0-6808DD58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B040-4180-4B5E-BA75-29D0D5C9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C96B-40BA-45FD-A8E1-7DE860A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4347-6D7C-4849-88D2-3B5941F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092-71E7-4494-8F1A-5DF92EA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36C0-C755-4565-8F5D-895FA7E9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6A4C-9051-4355-98F9-E7FD07F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E8F4-E0FD-4CF5-9171-0677F94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3B4D-508D-4243-B050-850386E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FC49-6D32-4F9D-B6D0-7F1E05D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022B-7B43-4E7F-B3D1-B948EA10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7363-9D37-45E5-9FDD-C99CA7B1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A22-B22B-437E-AC49-CDE6F29B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978D-8A2F-4FAE-A4D8-D30F45BE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93A7-2971-403F-A8AE-10F06C7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17BD-5140-4A65-95AA-BFC31567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F931-DB44-4177-8B00-ED77D72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195A-80F9-47EB-ACF0-054179E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495D-0782-449F-80B5-533811F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4137-4BBE-4983-91A9-06EA950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1EB-B110-4A7C-89D7-059D7218DD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E6C-6576-45D6-A783-1A4F32451B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7030-29D4-4953-8EA1-9A4C7464A0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5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12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3D4-9F4F-4E8A-99C7-681DA8B3BD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.6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9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0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5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5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.2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92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7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4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.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.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.6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6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6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.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61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3CF1-084D-4094-B9AD-A29C872E51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771480" y="2346480"/>
            <a:ext cx="6877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AE2-ADF4-4978-8484-AA2A53FF4FB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770040" y="2351160"/>
            <a:ext cx="6867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508-3254-46E7-82E7-8780BAE830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0.1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6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3.9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.5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1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.8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.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.0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7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.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1.8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.7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6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.8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5.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4.2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3.6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1.4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9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.6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9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081-94D6-471C-9FE8-46D8284CC7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1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.4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.4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4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9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8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.5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9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6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.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.7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.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.7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0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5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100-79C9-4745-B074-EA5E7E61A2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12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6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2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.0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6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.3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8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7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.4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1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.1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5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.2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92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F32-0B65-4A3B-AA9E-8D67A9836E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上海市汽车统计报表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2317680"/>
          <a:ext cx="6624720" cy="4022640"/>
        </p:xfrm>
        <a:graphic>
          <a:graphicData uri="http://schemas.openxmlformats.org/drawingml/2006/table">
            <a:tbl>
              <a:tblPr/>
              <a:tblGrid>
                <a:gridCol w="360360"/>
                <a:gridCol w="1800360"/>
                <a:gridCol w="1079640"/>
                <a:gridCol w="1081080"/>
                <a:gridCol w="863640"/>
                <a:gridCol w="143964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百分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3516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9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2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3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9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6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4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59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3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5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925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42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7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4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8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5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.5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.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其中郊区小客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10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01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02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683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95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2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其它车辆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1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9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汽车总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245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108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3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7E14-1183-4B71-B319-1F95B53AC88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xiefei</cp:lastModifiedBy>
  <dcterms:modified xsi:type="dcterms:W3CDTF">2016-01-06T01:55:50Z</dcterms:modified>
  <cp:revision>499</cp:revision>
  <dc:subject/>
  <dc:title>上海市信息中心汽车产业研究室</dc:title>
</cp:coreProperties>
</file>