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DF30-5AC0-489C-BA81-5CCB64D31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3A03-FA9B-445C-9A59-AD44BA48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16BF-1BAE-4C45-86F5-AC0B8E44F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9BCC-5480-41ED-A544-E826DBE93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06DB-5030-4428-BFA4-6A5D9794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B36C-2EFE-4017-A696-425308B3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2BF1-7F94-4792-9E8C-F24B138F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2D01-3A3C-4C6C-A6A9-DB91A499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75E1-431F-4056-B26E-0F1F8535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BC88-5357-4A81-AC37-72A5BCA0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0630-EE8E-4392-A502-2F9AF2A1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6A3B-FABC-4C16-9F98-709CD40F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4ECA-5C1A-4343-ABA4-FFC47CD68D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72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1T13:25:27Z</dcterms:created>
  <dc:creator>Thinkpad</dc:creator>
  <dc:description/>
  <dc:language>en-US</dc:language>
  <cp:lastModifiedBy>Thinkpad</cp:lastModifiedBy>
  <dcterms:modified xsi:type="dcterms:W3CDTF">2016-01-11T13:31:4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