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dt" idx="1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sldImg"/>
          </p:nvPr>
        </p:nvSpPr>
        <p:spPr>
          <a:xfrm>
            <a:off x="992160" y="767880"/>
            <a:ext cx="51148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ftr" idx="1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 type="sldNum" idx="1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46B81-F48A-4AEC-87FE-EBF7D6FA27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技术部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B41F8-CEAD-45F6-8F51-745B71EFD7C7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暂时无需修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7AB6C-F84E-407F-B380-FAE1AD0CE35D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暂时无需修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33C08-0021-41A0-86B7-2FFD2DAA667A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E6B0A-B464-4FA1-855C-2567E22F3587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同比下降这次协会给的综述的表里没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23BA-AB15-4FDE-A017-C0936F72CFE0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使用全口径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月累计数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4880" cy="383724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灯片编号占位符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000" rIns="99000" tIns="49680" bIns="496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4AE4F-4039-4B87-BD99-89CD54679FD7}" type="slidenum">
              <a:rPr b="0" lang="en-US" sz="1300" spc="-1" strike="noStrike">
                <a:solidFill>
                  <a:srgbClr val="333333"/>
                </a:solidFill>
                <a:latin typeface="Arial"/>
              </a:rPr>
              <a:t>&lt;number&gt;</a:t>
            </a:fld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56174-944F-43BA-8C20-D0499D68A8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5DA91-7C76-41CA-A876-A31D8CCD3FD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CECB3-D276-402D-BA35-590EA9137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BBDF57-5607-4353-88B8-006FFE4291B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92B6D-DC2C-47EE-A0B4-D9C4A1524F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AC1BC-ED13-4A9B-B504-BC2D9A5DBD1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9D91E-DC40-4510-BBD7-86B467871998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71CE1C-6DC1-485D-92E2-777FFC409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243E71-7700-4CF5-B6B2-6E1A13AC12BF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B3D82-451B-47E6-BEE8-D671FDAED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E6B51B-02BB-45FC-A38E-8CA2382D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49EB2B-16FE-4C2F-AF5C-574605ED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17B290-0A25-434E-AD41-0E5B57228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564007-5555-403B-A009-7E86E9A12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B1F4E0-76E8-4F89-ACF3-796888996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E3632C-2BD1-4366-A946-5DDB80A11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C67C2-8591-4687-A134-2AE04AD52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555C0-20B0-436E-AA8C-DEA077E8A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BEAB1E-4D88-494C-9007-7C460C1B6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E2112-4395-492D-9FC6-3CE485D5E73F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6133A5-5ACA-4FA5-91B8-19FD4E08D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A8A4C5-1F9D-486E-A52E-7F82D11C4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AEEBD29-5CFD-49BE-8A33-D48E69DF0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F70263-9D77-45E7-A8B4-15F28253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8351D3C-A183-4B36-AF13-E27189059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4019CEA-B7DD-444D-91EA-F1A1EBE62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F3ABAE9-CA55-433C-81E4-5C7D38B96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9C4789-EC11-4312-B340-E3C6D0626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E140EDD-129E-4D4C-8A7B-68DE86654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C1A252-883F-4352-B6EE-010089955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640B-45B6-4231-99F0-A2D6F1659284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ACBC263-2166-41DC-BAFF-249FB712F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19FB4B-111D-45E8-8348-44CADD725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F756352-705A-418D-927F-C5220B406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69CC63-D8E9-4BEC-A185-9248395BB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FB9208-5A05-414B-8D4C-B9650C61C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3BB028-0650-439E-8356-B0CD1CF29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E98CB66-5BD3-4356-911D-F57F5617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ED3202A-CD5B-40DF-A3C7-B606CAD9F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1A79070-675D-473A-90FD-4C8EE3FAE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16C3FAC-950D-47A7-896A-F9569F6F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545D4-AB14-45D3-9632-C8CB842B8515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689850-40BC-46FD-9EBB-B24106D1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8C5A0B-E983-4C3E-A110-871EBC34E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F349A-1A29-4251-B7F7-06940FC79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634E894-F8CA-449D-AEB4-F8AB18A91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19C7AC-C250-4016-BBC7-755A73339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F5FA51-8BBF-4910-B705-F843DFB2C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83F210-2737-4302-B13E-105E7EB51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7A59C0-85FE-4D48-92FA-0B2CCE250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3364ABF-FC30-4A71-9D14-4C2EE106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C8AE8E6-99FD-49BC-94F4-817CE05B2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0BCAC-5F93-4E15-8B46-F4D1C72C0607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5F6CBB-F330-4F36-83B8-92A774D30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758B1E7-85B6-4EC5-94A1-89A8386F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BD02D61-77D6-4DC0-B936-D19EF5DD3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0191D4-819E-43EA-A0A8-AC667414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112E25-BFBF-4500-8969-AFDB9D531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218EB49-D9BA-4889-A9A1-1CC85EAE3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A8256EB-4BB0-4571-BC59-CCEC1CBE0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45A098D-90E4-4E9F-A8EB-25A876F35AAB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4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12"/>
          <p:cNvSpPr/>
          <p:nvPr/>
        </p:nvSpPr>
        <p:spPr>
          <a:xfrm>
            <a:off x="0" y="4322880"/>
            <a:ext cx="9144000" cy="2538360"/>
          </a:xfrm>
          <a:prstGeom prst="rect">
            <a:avLst/>
          </a:prstGeom>
          <a:gradFill rotWithShape="0">
            <a:gsLst>
              <a:gs pos="0">
                <a:srgbClr val="336699"/>
              </a:gs>
              <a:gs pos="100000">
                <a:srgbClr val="75a3d1">
                  <a:alpha val="2000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3" name="Picture 22" descr="SC0363"/>
          <p:cNvPicPr/>
          <p:nvPr/>
        </p:nvPicPr>
        <p:blipFill>
          <a:blip r:embed="rId2"/>
          <a:srcRect l="0" t="0" r="14439" b="0"/>
          <a:stretch/>
        </p:blipFill>
        <p:spPr>
          <a:xfrm>
            <a:off x="0" y="4343400"/>
            <a:ext cx="9144000" cy="25210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3080c2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75a3d1"/>
              </a:buClr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333333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85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7" name="Picture 34" descr="SC0363"/>
          <p:cNvPicPr/>
          <p:nvPr/>
        </p:nvPicPr>
        <p:blipFill>
          <a:blip r:embed="rId5"/>
          <a:srcRect l="14438" t="56240" r="47251" b="16122"/>
          <a:stretch/>
        </p:blipFill>
        <p:spPr>
          <a:xfrm>
            <a:off x="0" y="952560"/>
            <a:ext cx="9144000" cy="5905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127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6400800" y="5929200"/>
            <a:ext cx="2743200" cy="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169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Num" idx="4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410A-3B8F-4866-B31C-DD342252ACF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213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4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sldNum" idx="7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AAC35-325D-488A-A253-12F156968FA3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257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sldNum" idx="10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1781-B538-46F9-A606-E9421AA941AD}" type="slidenum"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Picture 34" descr="SC0363"/>
          <p:cNvPicPr/>
          <p:nvPr/>
        </p:nvPicPr>
        <p:blipFill>
          <a:blip r:embed="rId2"/>
          <a:srcRect l="14438" t="56240" r="0" b="16122"/>
          <a:stretch/>
        </p:blipFill>
        <p:spPr>
          <a:xfrm>
            <a:off x="0" y="0"/>
            <a:ext cx="9144000" cy="100332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35" descr="SC0363"/>
          <p:cNvPicPr/>
          <p:nvPr/>
        </p:nvPicPr>
        <p:blipFill>
          <a:blip r:embed="rId3"/>
          <a:srcRect l="14438" t="56240" r="15345" b="14983"/>
          <a:stretch/>
        </p:blipFill>
        <p:spPr>
          <a:xfrm>
            <a:off x="1639800" y="0"/>
            <a:ext cx="7504200" cy="1003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72" descr="协会LOGO矢量图"/>
          <p:cNvPicPr/>
          <p:nvPr/>
        </p:nvPicPr>
        <p:blipFill>
          <a:blip r:embed="rId4"/>
          <a:stretch/>
        </p:blipFill>
        <p:spPr>
          <a:xfrm>
            <a:off x="6621480" y="6207120"/>
            <a:ext cx="519120" cy="582480"/>
          </a:xfrm>
          <a:prstGeom prst="rect">
            <a:avLst/>
          </a:prstGeom>
          <a:ln w="0">
            <a:noFill/>
          </a:ln>
        </p:spPr>
      </p:pic>
      <p:sp>
        <p:nvSpPr>
          <p:cNvPr id="301" name="TextBox 9"/>
          <p:cNvSpPr/>
          <p:nvPr/>
        </p:nvSpPr>
        <p:spPr>
          <a:xfrm>
            <a:off x="7476120" y="631332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中国汽车流通协会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2" name="矩形 10"/>
          <p:cNvSpPr/>
          <p:nvPr/>
        </p:nvSpPr>
        <p:spPr>
          <a:xfrm>
            <a:off x="6685200" y="6558120"/>
            <a:ext cx="281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24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33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sldNum" idx="13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000" spc="-1" strike="noStrike">
                <a:solidFill>
                  <a:srgbClr val="333333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6A818-3043-4A5E-AF95-EE83E85723AF}" type="slidenum">
              <a:rPr b="1" lang="zh-CN" sz="1000" spc="-1" strike="noStrike">
                <a:solidFill>
                  <a:srgbClr val="333333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7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72" descr="协会LOGO矢量图"/>
          <p:cNvPicPr/>
          <p:nvPr/>
        </p:nvPicPr>
        <p:blipFill>
          <a:blip r:embed="rId1"/>
          <a:stretch/>
        </p:blipFill>
        <p:spPr>
          <a:xfrm>
            <a:off x="206280" y="849240"/>
            <a:ext cx="714600" cy="804960"/>
          </a:xfrm>
          <a:prstGeom prst="rect">
            <a:avLst/>
          </a:prstGeom>
          <a:ln w="0">
            <a:noFill/>
          </a:ln>
        </p:spPr>
      </p:pic>
      <p:sp>
        <p:nvSpPr>
          <p:cNvPr id="350" name="矩形 6"/>
          <p:cNvSpPr/>
          <p:nvPr/>
        </p:nvSpPr>
        <p:spPr>
          <a:xfrm>
            <a:off x="357120" y="1278000"/>
            <a:ext cx="412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33"/>
                </a:solidFill>
                <a:latin typeface="华文行楷"/>
                <a:ea typeface="华文行楷"/>
              </a:rPr>
              <a:t>China  Automobile Dealers  Association</a:t>
            </a:r>
            <a:endParaRPr b="0" i="1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1" name="Rectangle 3"/>
          <p:cNvSpPr/>
          <p:nvPr/>
        </p:nvSpPr>
        <p:spPr>
          <a:xfrm>
            <a:off x="865080" y="963720"/>
            <a:ext cx="303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-1" strike="noStrike">
                <a:solidFill>
                  <a:srgbClr val="333333"/>
                </a:solidFill>
                <a:latin typeface="华文新魏"/>
                <a:ea typeface="华文新魏"/>
              </a:rPr>
              <a:t>中国汽车流通协会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52" name="矩形 8" descr=""/>
          <p:cNvPicPr/>
          <p:nvPr/>
        </p:nvPicPr>
        <p:blipFill>
          <a:blip r:embed="rId2"/>
          <a:stretch/>
        </p:blipFill>
        <p:spPr>
          <a:xfrm>
            <a:off x="1279440" y="2309760"/>
            <a:ext cx="6999480" cy="16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-360" y="476280"/>
            <a:ext cx="6799320" cy="51912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六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交易市场交易价格分析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TextBox 11"/>
          <p:cNvSpPr/>
          <p:nvPr/>
        </p:nvSpPr>
        <p:spPr>
          <a:xfrm>
            <a:off x="374760" y="1162080"/>
            <a:ext cx="8132760" cy="10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85840" indent="-285840">
              <a:lnSpc>
                <a:spcPct val="150000"/>
              </a:lnSpc>
              <a:buClr>
                <a:srgbClr val="4a597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5972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交易市场交易价格分析：交易价格在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以内的占比最大，占比为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43.93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3-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占比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9.08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5-10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占比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.31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以上占比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6.68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整体交易量与交易价格呈现线性关系；非常有意思的是，人们在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3-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5-10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间选择时，选择后者数量更多一些。</a:t>
            </a:r>
            <a:endParaRPr b="0" i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79" name="图表 5" descr=""/>
          <p:cNvPicPr/>
          <p:nvPr/>
        </p:nvPicPr>
        <p:blipFill>
          <a:blip r:embed="rId1"/>
          <a:stretch/>
        </p:blipFill>
        <p:spPr>
          <a:xfrm>
            <a:off x="244440" y="2309760"/>
            <a:ext cx="858852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42336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八、典型品牌的置换分析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1" name="TextBox 11"/>
          <p:cNvSpPr/>
          <p:nvPr/>
        </p:nvSpPr>
        <p:spPr>
          <a:xfrm>
            <a:off x="485640" y="1366920"/>
            <a:ext cx="806292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85840" indent="-285840">
              <a:lnSpc>
                <a:spcPct val="1500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根据置换数据分析，意向置换一汽奥迪的品牌主要有：一汽大众、上汽大众、一汽奥迪等品牌。</a:t>
            </a:r>
            <a:endParaRPr b="0" i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文本框 1"/>
          <p:cNvSpPr/>
          <p:nvPr/>
        </p:nvSpPr>
        <p:spPr>
          <a:xfrm>
            <a:off x="2099880" y="2427120"/>
            <a:ext cx="34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333333"/>
                </a:solidFill>
                <a:latin typeface="黑体"/>
                <a:ea typeface="黑体"/>
              </a:rPr>
              <a:t>一汽奥迪置换进向</a:t>
            </a:r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83" name="图表 12" descr=""/>
          <p:cNvPicPr/>
          <p:nvPr/>
        </p:nvPicPr>
        <p:blipFill>
          <a:blip r:embed="rId1"/>
          <a:stretch/>
        </p:blipFill>
        <p:spPr>
          <a:xfrm>
            <a:off x="1436760" y="2789280"/>
            <a:ext cx="6218280" cy="33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-360" y="442440"/>
            <a:ext cx="5832360" cy="6922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八、典型品牌的置换分析</a:t>
            </a:r>
            <a:br>
              <a:rPr sz="2400"/>
            </a:b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5" name="TextBox 11"/>
          <p:cNvSpPr/>
          <p:nvPr/>
        </p:nvSpPr>
        <p:spPr>
          <a:xfrm>
            <a:off x="554040" y="1235160"/>
            <a:ext cx="80326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85840" indent="-285840">
              <a:lnSpc>
                <a:spcPct val="1500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根据置换数据分析，一汽奥迪用户意向置换的新车品牌主要有：一汽奥迪、奥迪（进口）、宝马（进口）、华晨宝马等品牌。</a:t>
            </a:r>
            <a:endParaRPr b="0" i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文本框 1"/>
          <p:cNvSpPr/>
          <p:nvPr/>
        </p:nvSpPr>
        <p:spPr>
          <a:xfrm>
            <a:off x="2288880" y="2330280"/>
            <a:ext cx="34524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300" spc="-1" strike="noStrike">
                <a:solidFill>
                  <a:srgbClr val="333333"/>
                </a:solidFill>
                <a:latin typeface="黑体"/>
                <a:ea typeface="黑体"/>
              </a:rPr>
              <a:t>一汽奥迪置换出向</a:t>
            </a:r>
            <a:endParaRPr b="0" i="1" lang="en-US" sz="13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87" name="图表 7" descr=""/>
          <p:cNvPicPr/>
          <p:nvPr/>
        </p:nvPicPr>
        <p:blipFill>
          <a:blip r:embed="rId1"/>
          <a:stretch/>
        </p:blipFill>
        <p:spPr>
          <a:xfrm>
            <a:off x="1625760" y="2865600"/>
            <a:ext cx="6281640" cy="36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483840"/>
            <a:ext cx="773424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九、限迁制约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二手车交易量未实现千万规模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9" name="TextBox 11"/>
          <p:cNvSpPr/>
          <p:nvPr/>
        </p:nvSpPr>
        <p:spPr>
          <a:xfrm>
            <a:off x="374760" y="1162080"/>
            <a:ext cx="8132760" cy="13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marL="285840" indent="-285840">
              <a:lnSpc>
                <a:spcPct val="1500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据中国汽车流通协会调查，目前全国已有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95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人地级城市实行了限迁。国五标准以上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2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城市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, 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国四标准以上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61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城市，国三标准以上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51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城市，国二标准以上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3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个城市。这已导致车源丰富的一、二线城市中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8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以上老旧二手车无法正常落户，严重制约了二手车的流通。</a:t>
            </a:r>
            <a:endParaRPr b="0" i="1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285840" indent="-285840">
              <a:lnSpc>
                <a:spcPct val="1500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数据显示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全国二手车市场累计交易量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840.03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，相比上年同期增长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3.63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预计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全年我国二手车市场累计交易量将达到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930-940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左右，较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同比增长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左右，未实现千万辆规模的预期。</a:t>
            </a:r>
            <a:endParaRPr b="0" i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90" name="图表 3" descr=""/>
          <p:cNvPicPr/>
          <p:nvPr/>
        </p:nvPicPr>
        <p:blipFill>
          <a:blip r:embed="rId1"/>
          <a:stretch/>
        </p:blipFill>
        <p:spPr>
          <a:xfrm>
            <a:off x="596880" y="3174840"/>
            <a:ext cx="4089600" cy="3035520"/>
          </a:xfrm>
          <a:prstGeom prst="rect">
            <a:avLst/>
          </a:prstGeom>
          <a:ln w="0">
            <a:noFill/>
          </a:ln>
        </p:spPr>
      </p:pic>
      <p:sp>
        <p:nvSpPr>
          <p:cNvPr id="391" name="矩形 4"/>
          <p:cNvSpPr/>
          <p:nvPr/>
        </p:nvSpPr>
        <p:spPr>
          <a:xfrm>
            <a:off x="241200" y="3281400"/>
            <a:ext cx="111780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58585"/>
                </a:solidFill>
                <a:latin typeface="Arial"/>
                <a:ea typeface="宋体"/>
              </a:rPr>
              <a:t>单位：万辆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92" name="图片 5" descr="C:\Users\AutoDs\AppData\Roaming\Foxmail7\Temp-8044-20150731093515\修改后.jpg"/>
          <p:cNvPicPr/>
          <p:nvPr/>
        </p:nvPicPr>
        <p:blipFill>
          <a:blip r:embed="rId2"/>
          <a:srcRect l="9539" t="105" r="8382" b="10390"/>
          <a:stretch/>
        </p:blipFill>
        <p:spPr>
          <a:xfrm>
            <a:off x="5016600" y="3530520"/>
            <a:ext cx="3543120" cy="2425680"/>
          </a:xfrm>
          <a:prstGeom prst="rect">
            <a:avLst/>
          </a:prstGeom>
          <a:ln w="0">
            <a:noFill/>
          </a:ln>
        </p:spPr>
      </p:pic>
      <p:sp>
        <p:nvSpPr>
          <p:cNvPr id="393" name="矩形 6"/>
          <p:cNvSpPr/>
          <p:nvPr/>
        </p:nvSpPr>
        <p:spPr>
          <a:xfrm>
            <a:off x="6400800" y="3319560"/>
            <a:ext cx="1625760" cy="3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858585"/>
                </a:solidFill>
                <a:latin typeface="Arial"/>
                <a:ea typeface="宋体"/>
              </a:rPr>
              <a:t>限迁城市分布图</a:t>
            </a:r>
            <a:endParaRPr b="0" i="1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Box 2"/>
          <p:cNvSpPr/>
          <p:nvPr/>
        </p:nvSpPr>
        <p:spPr>
          <a:xfrm>
            <a:off x="2979720" y="2054160"/>
            <a:ext cx="287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333333"/>
                </a:solidFill>
                <a:latin typeface="华文行楷"/>
                <a:ea typeface="华文行楷"/>
              </a:rPr>
              <a:t>谢 谢！</a:t>
            </a:r>
            <a:endParaRPr b="0" i="1" lang="en-US" sz="8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0" y="450720"/>
            <a:ext cx="800244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一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市场整体表现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TextBox 11"/>
          <p:cNvSpPr/>
          <p:nvPr/>
        </p:nvSpPr>
        <p:spPr>
          <a:xfrm>
            <a:off x="577800" y="1117440"/>
            <a:ext cx="797076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500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全国二手车市场累计交易量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840.03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，相比上年同期增长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3.63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累计交易额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4924.21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亿元；其中，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当月交易量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84.64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万辆，环比上升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7.52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；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1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当月交易额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502.99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亿元，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 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环比上升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4.76</a:t>
            </a:r>
            <a:r>
              <a:rPr b="0" lang="en-US" sz="1600" spc="-1" strike="noStrike">
                <a:solidFill>
                  <a:srgbClr val="606060"/>
                </a:solidFill>
                <a:latin typeface="微软雅黑"/>
                <a:ea typeface="微软雅黑"/>
              </a:rPr>
              <a:t>%</a:t>
            </a:r>
            <a:r>
              <a:rPr b="0" lang="zh-CN" sz="1600" spc="-1" strike="noStrike">
                <a:solidFill>
                  <a:srgbClr val="606060"/>
                </a:solidFill>
                <a:latin typeface="微软雅黑"/>
                <a:ea typeface="微软雅黑"/>
              </a:rPr>
              <a:t>。</a:t>
            </a:r>
            <a:endParaRPr b="0" i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55" name="图表 5" descr=""/>
          <p:cNvPicPr/>
          <p:nvPr/>
        </p:nvPicPr>
        <p:blipFill>
          <a:blip r:embed="rId1"/>
          <a:stretch/>
        </p:blipFill>
        <p:spPr>
          <a:xfrm>
            <a:off x="520560" y="2476440"/>
            <a:ext cx="7905960" cy="3832200"/>
          </a:xfrm>
          <a:prstGeom prst="rect">
            <a:avLst/>
          </a:prstGeom>
          <a:ln w="0">
            <a:noFill/>
          </a:ln>
        </p:spPr>
      </p:pic>
      <p:sp>
        <p:nvSpPr>
          <p:cNvPr id="356" name="矩形 6"/>
          <p:cNvSpPr/>
          <p:nvPr/>
        </p:nvSpPr>
        <p:spPr>
          <a:xfrm>
            <a:off x="2941560" y="3370320"/>
            <a:ext cx="1060560" cy="28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400" spc="-1" strike="noStrike">
                <a:solidFill>
                  <a:srgbClr val="606060"/>
                </a:solidFill>
                <a:latin typeface="Arial"/>
                <a:ea typeface="黑体"/>
              </a:rPr>
              <a:t>上升</a:t>
            </a:r>
            <a:r>
              <a:rPr b="1" i="1" lang="en-US" sz="1400" spc="-1" strike="noStrike">
                <a:solidFill>
                  <a:srgbClr val="606060"/>
                </a:solidFill>
                <a:latin typeface="Arial"/>
                <a:ea typeface="黑体"/>
              </a:rPr>
              <a:t>17.52%</a:t>
            </a:r>
            <a:endParaRPr b="0" i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TextBox 8"/>
          <p:cNvSpPr/>
          <p:nvPr/>
        </p:nvSpPr>
        <p:spPr>
          <a:xfrm>
            <a:off x="276120" y="291960"/>
            <a:ext cx="57038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一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市场整体表现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58" name="图表 8" descr=""/>
          <p:cNvPicPr/>
          <p:nvPr/>
        </p:nvPicPr>
        <p:blipFill>
          <a:blip r:embed="rId1"/>
          <a:stretch/>
        </p:blipFill>
        <p:spPr>
          <a:xfrm>
            <a:off x="755640" y="1352520"/>
            <a:ext cx="7772400" cy="45417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415440"/>
            <a:ext cx="640080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二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交易量区域分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0" name="TextBox 11"/>
          <p:cNvSpPr/>
          <p:nvPr/>
        </p:nvSpPr>
        <p:spPr>
          <a:xfrm>
            <a:off x="568440" y="1231920"/>
            <a:ext cx="781344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50000"/>
              </a:lnSpc>
              <a:buClr>
                <a:srgbClr val="4a597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a5972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全国二手车交易情况区域分布：华东区占比最大，占比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32.01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其次为中南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.16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华北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9.56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 西南地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5.75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东北地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7.45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西北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5.07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；东部经济发达地区的华东、华北区共占总交易量的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51.57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。</a:t>
            </a:r>
            <a:endParaRPr b="0" i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61" name="图表 8" descr=""/>
          <p:cNvPicPr/>
          <p:nvPr/>
        </p:nvPicPr>
        <p:blipFill>
          <a:blip r:embed="rId1"/>
          <a:stretch/>
        </p:blipFill>
        <p:spPr>
          <a:xfrm>
            <a:off x="1233360" y="2757600"/>
            <a:ext cx="60804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-360" y="415440"/>
            <a:ext cx="6248520" cy="63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二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交易量区域分布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63" name="图表 3" descr=""/>
          <p:cNvPicPr/>
          <p:nvPr/>
        </p:nvPicPr>
        <p:blipFill>
          <a:blip r:embed="rId1"/>
          <a:stretch/>
        </p:blipFill>
        <p:spPr>
          <a:xfrm>
            <a:off x="1158840" y="1695600"/>
            <a:ext cx="710712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TextBox 8"/>
          <p:cNvSpPr/>
          <p:nvPr/>
        </p:nvSpPr>
        <p:spPr>
          <a:xfrm>
            <a:off x="112680" y="425520"/>
            <a:ext cx="602316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三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交易量省市分布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TextBox 11"/>
          <p:cNvSpPr/>
          <p:nvPr/>
        </p:nvSpPr>
        <p:spPr>
          <a:xfrm>
            <a:off x="539640" y="1133640"/>
            <a:ext cx="8105760" cy="10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1360" indent="-171360">
              <a:lnSpc>
                <a:spcPct val="1500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全国二手车交易情况：广东交易量占比最大，为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.20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其次为四川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7.92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江苏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7.80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北京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7.43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浙江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7.06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山东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6.81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前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大地区占总交易量的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66.07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。</a:t>
            </a:r>
            <a:endParaRPr b="0" i="1" lang="en-US" sz="1400" spc="-1" strike="noStrike">
              <a:solidFill>
                <a:srgbClr val="333333"/>
              </a:solidFill>
              <a:latin typeface="Arial"/>
            </a:endParaRPr>
          </a:p>
          <a:p>
            <a:pPr marL="171360" indent="-171360">
              <a:lnSpc>
                <a:spcPct val="150000"/>
              </a:lnSpc>
              <a:buClr>
                <a:srgbClr val="333333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从趋势图来看，广东、四川、江苏、北京、浙江、山东在全国的交易量占比中稳居前列。</a:t>
            </a:r>
            <a:endParaRPr b="0" i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66" name="图表 5" descr=""/>
          <p:cNvPicPr/>
          <p:nvPr/>
        </p:nvPicPr>
        <p:blipFill>
          <a:blip r:embed="rId1"/>
          <a:stretch/>
        </p:blipFill>
        <p:spPr>
          <a:xfrm>
            <a:off x="341280" y="2530440"/>
            <a:ext cx="83091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TextBox 8"/>
          <p:cNvSpPr/>
          <p:nvPr/>
        </p:nvSpPr>
        <p:spPr>
          <a:xfrm>
            <a:off x="0" y="382680"/>
            <a:ext cx="572760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四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交易车型分析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TextBox 11"/>
          <p:cNvSpPr/>
          <p:nvPr/>
        </p:nvSpPr>
        <p:spPr>
          <a:xfrm>
            <a:off x="457200" y="1146240"/>
            <a:ext cx="815976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1360" indent="-171360">
              <a:lnSpc>
                <a:spcPct val="150000"/>
              </a:lnSpc>
              <a:buClr>
                <a:srgbClr val="4a597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4a5972"/>
                </a:solidFill>
                <a:latin typeface="微软雅黑"/>
                <a:ea typeface="微软雅黑"/>
              </a:rPr>
              <a:t> 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全国二手车车型分析：基本型乘用车仍为主要流通车型，占比为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59.70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其次为客车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2.70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货车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1.45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SUV4.95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MPV3.76%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；其中，相比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4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，基本型乘用车、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SUV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交叉型乘用车、挂车占全部交易的比例均有所增加，客车、货车、</a:t>
            </a:r>
            <a:r>
              <a:rPr b="0" lang="en-US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MPV</a:t>
            </a:r>
            <a:r>
              <a:rPr b="0" lang="zh-CN" sz="14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摩托车、其它车比例均有所下降， 低速载货车占比与去年基本持平。</a:t>
            </a:r>
            <a:endParaRPr b="0" i="1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69" name="图表 4" descr=""/>
          <p:cNvPicPr/>
          <p:nvPr/>
        </p:nvPicPr>
        <p:blipFill>
          <a:blip r:embed="rId1"/>
          <a:stretch/>
        </p:blipFill>
        <p:spPr>
          <a:xfrm>
            <a:off x="841320" y="2798640"/>
            <a:ext cx="7394760" cy="356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TextBox 8"/>
          <p:cNvSpPr/>
          <p:nvPr/>
        </p:nvSpPr>
        <p:spPr>
          <a:xfrm>
            <a:off x="0" y="322200"/>
            <a:ext cx="6913440" cy="8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2040" rIns="122040" tIns="60840" bIns="608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四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交易量排名前十的车系</a:t>
            </a: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493560" y="1184400"/>
            <a:ext cx="8217000" cy="4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171360" indent="-171360">
              <a:lnSpc>
                <a:spcPct val="150000"/>
              </a:lnSpc>
              <a:buClr>
                <a:srgbClr val="4a597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200" spc="-1" strike="noStrike">
                <a:solidFill>
                  <a:srgbClr val="4a5972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最受欢迎的二手车排行榜依次为：五菱之光、长安之星、捷达、夏利、凯越、雅阁、奥迪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A6L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乐驰、奇瑞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A1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、伊兰特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; 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其中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6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款为紧凑型小客车，价格较低，流通性较强；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款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B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级车（凯越、雅阁、奥迪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A6L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）也入围前十名。</a:t>
            </a:r>
            <a:endParaRPr b="0" i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72" name="图表 9" descr=""/>
          <p:cNvPicPr/>
          <p:nvPr/>
        </p:nvPicPr>
        <p:blipFill>
          <a:blip r:embed="rId1"/>
          <a:stretch/>
        </p:blipFill>
        <p:spPr>
          <a:xfrm>
            <a:off x="701640" y="2682720"/>
            <a:ext cx="7478640" cy="37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标题 1"/>
          <p:cNvSpPr/>
          <p:nvPr/>
        </p:nvSpPr>
        <p:spPr>
          <a:xfrm>
            <a:off x="-96840" y="409680"/>
            <a:ext cx="7605720" cy="6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五、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1" lang="en-US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1" lang="zh-CN" sz="24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交易市场车辆使用年限分析</a:t>
            </a:r>
            <a:br>
              <a:rPr sz="2400"/>
            </a:br>
            <a:endParaRPr b="0" i="1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TextBox 11"/>
          <p:cNvSpPr/>
          <p:nvPr/>
        </p:nvSpPr>
        <p:spPr>
          <a:xfrm>
            <a:off x="471600" y="1101600"/>
            <a:ext cx="798012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marL="285840" indent="-285840">
              <a:lnSpc>
                <a:spcPct val="150000"/>
              </a:lnSpc>
              <a:buClr>
                <a:srgbClr val="4a5972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400" spc="-1" strike="noStrike">
                <a:solidFill>
                  <a:srgbClr val="4a5972"/>
                </a:solidFill>
                <a:latin typeface="微软雅黑"/>
                <a:ea typeface="微软雅黑"/>
              </a:rPr>
              <a:t> 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2015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-11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月二手车交易市场车辆使用年限分析：使用年限在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3-6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的交易量最多，占比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66.34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其次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3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内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8.97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6-10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5.58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，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10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年以上为</a:t>
            </a:r>
            <a:r>
              <a:rPr b="0" lang="en-US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9.10%</a:t>
            </a:r>
            <a:r>
              <a:rPr b="0" lang="zh-CN" sz="1600" spc="-1" strike="noStrike">
                <a:solidFill>
                  <a:srgbClr val="333333"/>
                </a:solidFill>
                <a:latin typeface="微软雅黑"/>
                <a:ea typeface="微软雅黑"/>
              </a:rPr>
              <a:t>。</a:t>
            </a:r>
            <a:endParaRPr b="0" i="1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75" name="图表 3" descr=""/>
          <p:cNvPicPr/>
          <p:nvPr/>
        </p:nvPicPr>
        <p:blipFill>
          <a:blip r:embed="rId1"/>
          <a:stretch/>
        </p:blipFill>
        <p:spPr>
          <a:xfrm>
            <a:off x="1305000" y="2554200"/>
            <a:ext cx="5973840" cy="2670120"/>
          </a:xfrm>
          <a:prstGeom prst="rect">
            <a:avLst/>
          </a:prstGeom>
          <a:ln w="0">
            <a:noFill/>
          </a:ln>
        </p:spPr>
      </p:pic>
      <p:pic>
        <p:nvPicPr>
          <p:cNvPr id="376" name="图表 6" descr=""/>
          <p:cNvPicPr/>
          <p:nvPr/>
        </p:nvPicPr>
        <p:blipFill>
          <a:blip r:embed="rId2"/>
          <a:stretch/>
        </p:blipFill>
        <p:spPr>
          <a:xfrm>
            <a:off x="576360" y="2371680"/>
            <a:ext cx="75578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6T01:42:58Z</dcterms:created>
  <dc:creator>yirenyxj</dc:creator>
  <dc:description/>
  <dc:language>en-US</dc:language>
  <cp:lastModifiedBy>admin</cp:lastModifiedBy>
  <dcterms:modified xsi:type="dcterms:W3CDTF">2016-01-05T02:13:04Z</dcterms:modified>
  <cp:revision>836</cp:revision>
  <dc:subject/>
  <dc:title>ppt.glzy8.com提供海量PPT模板免费下载！</dc:title>
</cp:coreProperties>
</file>