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16954-2B8D-48E1-9638-4E8F86313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14040" y="4153320"/>
            <a:ext cx="80010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FA082-A51E-49F3-8A83-C0BC5EB27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14040" y="415332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13720" y="415332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57D4B-5007-4F14-AFEC-ECBA8BA77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14040" y="4153320"/>
            <a:ext cx="257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19440" y="4153320"/>
            <a:ext cx="257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24840" y="4153320"/>
            <a:ext cx="257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AD45B-D1BA-48A7-816F-F77FCA125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20F9C-633D-4982-AD7A-056C221B0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D1B16-CE8D-4256-8263-B14CB347D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9C817-679E-46D3-9754-6F6FDFE21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0424F-AB26-4899-A2C5-D9E7F073B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1A889-7C7B-4A7D-A64B-2874B6307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8CBAA-E7AF-459E-8E75-F864D1C26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040" y="415332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85F2B-9E2C-4592-93E6-C97B4629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0243E-5A77-4D01-B6B1-A71991984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13720" y="415332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14FBC-DA54-4BFA-9B06-4A77A7BF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040" y="4153320"/>
            <a:ext cx="80010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892CB-2D9A-46B9-8E8E-2233C435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040" y="4153320"/>
            <a:ext cx="80010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B5E4E-6A6C-47D8-81BE-19B39E89F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040" y="415332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13720" y="415332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32BA7-F7AF-4622-9086-1BCCBC879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040" y="4153320"/>
            <a:ext cx="257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619440" y="4153320"/>
            <a:ext cx="257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24840" y="4153320"/>
            <a:ext cx="257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97EA5-4A9D-46D0-8EFC-8B2A73A51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1A7B4-83C0-459A-9599-DE103428F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5CB05-97FD-43AE-B36D-2B4582844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74405-63CC-41C4-BE48-317822B6F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598CB-A544-4234-A6D7-BC01E5E6F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040" y="415332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6BF9B-0C70-4A36-847D-EB58BEB0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13720" y="415332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3BE43-7296-45B1-9370-A66AC563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4153320"/>
            <a:ext cx="80010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21542-AAAF-41A1-98C7-1AE8259A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085760" indent="-217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519920" indent="-21708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1954440" indent="-21708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1954440" indent="-21708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1954440" indent="-21708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6B090-DF11-420E-9615-DE53172E9E5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9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" name="AutoShape 13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" name="Rectangle 17"/>
          <p:cNvSpPr/>
          <p:nvPr/>
        </p:nvSpPr>
        <p:spPr>
          <a:xfrm>
            <a:off x="396252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ftr" idx="3"/>
          </p:nvPr>
        </p:nvSpPr>
        <p:spPr>
          <a:xfrm>
            <a:off x="761760" y="6307560"/>
            <a:ext cx="8381880" cy="5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500" spc="-1" strike="noStrike">
                <a:solidFill>
                  <a:srgbClr val="000000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Times New Roman"/>
                <a:ea typeface="黑体"/>
              </a:rPr>
              <a:t>上海市信息中心汽车产业研究室</a:t>
            </a:r>
            <a:br>
              <a:rPr sz="1500"/>
            </a:br>
            <a:r>
              <a:rPr b="1" lang="zh-CN" sz="1500" spc="-1" strike="noStrike">
                <a:solidFill>
                  <a:srgbClr val="000000"/>
                </a:solidFill>
                <a:latin typeface="Times New Roman"/>
              </a:rPr>
              <a:t>地址：华山路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1076</a:t>
            </a:r>
            <a:r>
              <a:rPr b="1" lang="zh-CN" sz="1500" spc="-1" strike="noStrike">
                <a:solidFill>
                  <a:srgbClr val="000000"/>
                </a:solidFill>
                <a:latin typeface="Times New Roman"/>
              </a:rPr>
              <a:t>号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1500" spc="-1" strike="noStrike">
                <a:solidFill>
                  <a:srgbClr val="000000"/>
                </a:solidFill>
                <a:latin typeface="Times New Roman"/>
              </a:rPr>
              <a:t>号楼    邮编：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200050  </a:t>
            </a:r>
            <a:r>
              <a:rPr b="1" lang="zh-CN" sz="1500" spc="-1" strike="noStrike">
                <a:solidFill>
                  <a:srgbClr val="000000"/>
                </a:solidFill>
                <a:latin typeface="Times New Roman"/>
              </a:rPr>
              <a:t>电话：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62123126  </a:t>
            </a:r>
            <a:r>
              <a:rPr b="1" lang="zh-CN" sz="1500" spc="-1" strike="noStrike">
                <a:solidFill>
                  <a:srgbClr val="000000"/>
                </a:solidFill>
                <a:latin typeface="Times New Roman"/>
              </a:rPr>
              <a:t>传真：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62511172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026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AutoShape 1027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1" name="Group 1029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1030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1031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085760" indent="-217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519920" indent="-21708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1954440" indent="-21708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1954440" indent="-21708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1954440" indent="-21708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9AF2D-B936-499A-8CD4-5B034A93A69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034"/>
          <p:cNvSpPr/>
          <p:nvPr/>
        </p:nvSpPr>
        <p:spPr>
          <a:xfrm>
            <a:off x="9360" y="6358680"/>
            <a:ext cx="587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A27CD-C58F-4636-9E0A-2620EA1037A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华文行楷"/>
                <a:ea typeface="华文行楷"/>
              </a:rPr>
              <a:t>2016</a:t>
            </a:r>
            <a:r>
              <a:rPr b="1" lang="zh-CN" sz="3600" spc="-1" strike="noStrike">
                <a:solidFill>
                  <a:srgbClr val="003366"/>
                </a:solidFill>
                <a:latin typeface="华文行楷"/>
                <a:ea typeface="华文行楷"/>
              </a:rPr>
              <a:t>年</a:t>
            </a:r>
            <a:r>
              <a:rPr b="1" lang="en-US" sz="3600" spc="-1" strike="noStrike">
                <a:solidFill>
                  <a:srgbClr val="003366"/>
                </a:solidFill>
                <a:latin typeface="华文行楷"/>
                <a:ea typeface="华文行楷"/>
              </a:rPr>
              <a:t>1</a:t>
            </a:r>
            <a:r>
              <a:rPr b="1" lang="zh-CN" sz="3600" spc="-1" strike="noStrike">
                <a:solidFill>
                  <a:srgbClr val="003366"/>
                </a:solidFill>
                <a:latin typeface="华文行楷"/>
                <a:ea typeface="华文行楷"/>
              </a:rPr>
              <a:t>月上海汽车市场上牌情况</a:t>
            </a:r>
            <a:br>
              <a:rPr sz="3600"/>
            </a:br>
            <a:r>
              <a:rPr b="1" lang="zh-CN" sz="3600" spc="-1" strike="noStrike">
                <a:solidFill>
                  <a:srgbClr val="003366"/>
                </a:solidFill>
                <a:latin typeface="华文行楷"/>
                <a:ea typeface="华文行楷"/>
              </a:rPr>
              <a:t>及上海市场消费特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46520" y="3644640"/>
            <a:ext cx="3741840" cy="11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华文楷体"/>
                <a:ea typeface="华文楷体"/>
              </a:rPr>
              <a:t>上海市信息中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华文楷体"/>
                <a:ea typeface="华文楷体"/>
              </a:rPr>
              <a:t>汽车产业研究室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日期占位符 3"/>
          <p:cNvSpPr/>
          <p:nvPr/>
        </p:nvSpPr>
        <p:spPr>
          <a:xfrm>
            <a:off x="7010280" y="65509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灯片编号占位符 4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9CE54-3FE3-4ED5-8BF8-90C8E508D60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页脚占位符 5"/>
          <p:cNvSpPr/>
          <p:nvPr/>
        </p:nvSpPr>
        <p:spPr>
          <a:xfrm>
            <a:off x="762120" y="6307560"/>
            <a:ext cx="83818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3366"/>
                </a:solidFill>
                <a:latin typeface="Times New Roman"/>
                <a:ea typeface="黑体"/>
              </a:rPr>
              <a:t>上海市信息中心汽车产业研究室</a:t>
            </a:r>
            <a:br>
              <a:rPr sz="1500"/>
            </a:b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地址：华山路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1076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号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号楼    邮编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200050  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电话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62123126  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传真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52383989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  <a:ea typeface="黑体"/>
              </a:rPr>
              <a:t> 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2016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</a:rPr>
              <a:t>月上海各车型</a:t>
            </a:r>
            <a:r>
              <a:rPr b="1" lang="zh-CN" sz="3200" spc="-1" strike="noStrike">
                <a:solidFill>
                  <a:srgbClr val="006666"/>
                </a:solidFill>
                <a:latin typeface="宋体"/>
              </a:rPr>
              <a:t>上牌量同比情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Rectangle 1028"/>
          <p:cNvSpPr/>
          <p:nvPr/>
        </p:nvSpPr>
        <p:spPr>
          <a:xfrm>
            <a:off x="2584440" y="480960"/>
            <a:ext cx="3973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Rectangle 1035"/>
          <p:cNvSpPr/>
          <p:nvPr/>
        </p:nvSpPr>
        <p:spPr>
          <a:xfrm>
            <a:off x="2584440" y="1019160"/>
            <a:ext cx="3973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Rectangle 1042"/>
          <p:cNvSpPr/>
          <p:nvPr/>
        </p:nvSpPr>
        <p:spPr>
          <a:xfrm>
            <a:off x="2584440" y="471600"/>
            <a:ext cx="3973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Rectangle 1049"/>
          <p:cNvSpPr/>
          <p:nvPr/>
        </p:nvSpPr>
        <p:spPr>
          <a:xfrm>
            <a:off x="2584440" y="836640"/>
            <a:ext cx="3973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Rectangle 1056"/>
          <p:cNvSpPr/>
          <p:nvPr/>
        </p:nvSpPr>
        <p:spPr>
          <a:xfrm>
            <a:off x="2584440" y="471600"/>
            <a:ext cx="3973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Rectangle 1063"/>
          <p:cNvSpPr/>
          <p:nvPr/>
        </p:nvSpPr>
        <p:spPr>
          <a:xfrm>
            <a:off x="2584440" y="471600"/>
            <a:ext cx="3973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Rectangle 1070"/>
          <p:cNvSpPr/>
          <p:nvPr/>
        </p:nvSpPr>
        <p:spPr>
          <a:xfrm>
            <a:off x="2584440" y="471600"/>
            <a:ext cx="3973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Rectangle 1077"/>
          <p:cNvSpPr/>
          <p:nvPr/>
        </p:nvSpPr>
        <p:spPr>
          <a:xfrm>
            <a:off x="2584440" y="471600"/>
            <a:ext cx="3973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914400" y="2362320"/>
          <a:ext cx="6608880" cy="3938400"/>
        </p:xfrm>
        <a:graphic>
          <a:graphicData uri="http://schemas.openxmlformats.org/drawingml/2006/table">
            <a:tbl>
              <a:tblPr/>
              <a:tblGrid>
                <a:gridCol w="1353960"/>
                <a:gridCol w="1051200"/>
                <a:gridCol w="1050840"/>
                <a:gridCol w="1050840"/>
                <a:gridCol w="1050840"/>
                <a:gridCol w="1051200"/>
              </a:tblGrid>
              <a:tr h="694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类型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6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环比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同比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6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-1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-1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同比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进口小客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（含轿车）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5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.12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.27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5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.27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国产轿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4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.97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.37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4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.37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小型客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（除轿车）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07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.37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.50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07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.50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大型客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1.61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.68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.68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小型货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6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0.69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.40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6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.40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大型货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9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7.94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.31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9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.31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合计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82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.64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4.68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82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4.68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日期占位符 3"/>
          <p:cNvSpPr/>
          <p:nvPr/>
        </p:nvSpPr>
        <p:spPr>
          <a:xfrm>
            <a:off x="7010280" y="65509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灯片编号占位符 4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BAC9A-1900-470B-9E29-801293993BC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页脚占位符 5"/>
          <p:cNvSpPr/>
          <p:nvPr/>
        </p:nvSpPr>
        <p:spPr>
          <a:xfrm>
            <a:off x="762120" y="6307560"/>
            <a:ext cx="83818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3366"/>
                </a:solidFill>
                <a:latin typeface="Times New Roman"/>
                <a:ea typeface="黑体"/>
              </a:rPr>
              <a:t>上海市信息中心汽车产业研究室</a:t>
            </a:r>
            <a:br>
              <a:rPr sz="1500"/>
            </a:b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地址：华山路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1076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号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号楼    邮编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200050  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电话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62123126  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传真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52383989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  <a:ea typeface="黑体"/>
              </a:rPr>
              <a:t> 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040" y="1125360"/>
            <a:ext cx="8001000" cy="77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</a:rPr>
              <a:t>近两年上海车辆月度上牌数累计情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0" y="17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Rectangle 15"/>
          <p:cNvSpPr/>
          <p:nvPr/>
        </p:nvSpPr>
        <p:spPr>
          <a:xfrm>
            <a:off x="0" y="17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Rectangle 17"/>
          <p:cNvSpPr/>
          <p:nvPr/>
        </p:nvSpPr>
        <p:spPr>
          <a:xfrm>
            <a:off x="0" y="17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Rectangle 19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Rectangle 21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Rectangle 23"/>
          <p:cNvSpPr/>
          <p:nvPr/>
        </p:nvSpPr>
        <p:spPr>
          <a:xfrm>
            <a:off x="0" y="16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Rectangle 25"/>
          <p:cNvSpPr/>
          <p:nvPr/>
        </p:nvSpPr>
        <p:spPr>
          <a:xfrm>
            <a:off x="0" y="18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Rectangle 27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Rectangle 29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Rectangle 31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Rectangle 33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Rectangle 35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Rectangle 37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Rectangle 39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Rectangle 41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Rectangle 199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Rectangle 201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Rectangle 203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Rectangle 20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Rectangle 33"/>
          <p:cNvSpPr/>
          <p:nvPr/>
        </p:nvSpPr>
        <p:spPr>
          <a:xfrm>
            <a:off x="762120" y="1965240"/>
            <a:ext cx="10904400" cy="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Rectangle 36"/>
          <p:cNvSpPr/>
          <p:nvPr/>
        </p:nvSpPr>
        <p:spPr>
          <a:xfrm>
            <a:off x="790560" y="2297160"/>
            <a:ext cx="8088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3" name="图片 1" descr=""/>
          <p:cNvPicPr/>
          <p:nvPr/>
        </p:nvPicPr>
        <p:blipFill>
          <a:blip r:embed="rId1"/>
          <a:stretch/>
        </p:blipFill>
        <p:spPr>
          <a:xfrm>
            <a:off x="762120" y="2320920"/>
            <a:ext cx="690552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日期占位符 3"/>
          <p:cNvSpPr/>
          <p:nvPr/>
        </p:nvSpPr>
        <p:spPr>
          <a:xfrm>
            <a:off x="7010280" y="65509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灯片编号占位符 4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FBA63-EB43-4BE6-AD40-EA3A49095E9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页脚占位符 5"/>
          <p:cNvSpPr/>
          <p:nvPr/>
        </p:nvSpPr>
        <p:spPr>
          <a:xfrm>
            <a:off x="762120" y="6307560"/>
            <a:ext cx="83818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3366"/>
                </a:solidFill>
                <a:latin typeface="Times New Roman"/>
                <a:ea typeface="黑体"/>
              </a:rPr>
              <a:t>上海市信息中心汽车产业研究室</a:t>
            </a:r>
            <a:br>
              <a:rPr sz="1500"/>
            </a:b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地址：华山路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1076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号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号楼    邮编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200050  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电话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62123126  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传真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52383989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  <a:ea typeface="黑体"/>
              </a:rPr>
              <a:t> 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</a:rPr>
              <a:t>近两年上海车辆月度上牌数量情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Rectangle 13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Rectangle 15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Rectangle 19"/>
          <p:cNvSpPr/>
          <p:nvPr/>
        </p:nvSpPr>
        <p:spPr>
          <a:xfrm>
            <a:off x="0" y="17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Rectangle 21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Rectangle 23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Rectangle 29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Rectangle 31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Rectangle 33"/>
          <p:cNvSpPr/>
          <p:nvPr/>
        </p:nvSpPr>
        <p:spPr>
          <a:xfrm>
            <a:off x="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Rectangle 35"/>
          <p:cNvSpPr/>
          <p:nvPr/>
        </p:nvSpPr>
        <p:spPr>
          <a:xfrm>
            <a:off x="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Rectangle 38"/>
          <p:cNvSpPr/>
          <p:nvPr/>
        </p:nvSpPr>
        <p:spPr>
          <a:xfrm>
            <a:off x="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Rectangle 40"/>
          <p:cNvSpPr/>
          <p:nvPr/>
        </p:nvSpPr>
        <p:spPr>
          <a:xfrm>
            <a:off x="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Rectangle 4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Rectangle 29"/>
          <p:cNvSpPr/>
          <p:nvPr/>
        </p:nvSpPr>
        <p:spPr>
          <a:xfrm>
            <a:off x="539640" y="1976400"/>
            <a:ext cx="951228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Rectangle 32"/>
          <p:cNvSpPr/>
          <p:nvPr/>
        </p:nvSpPr>
        <p:spPr>
          <a:xfrm>
            <a:off x="-1114560" y="2325600"/>
            <a:ext cx="54295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2" name="图片 1" descr=""/>
          <p:cNvPicPr/>
          <p:nvPr/>
        </p:nvPicPr>
        <p:blipFill>
          <a:blip r:embed="rId1"/>
          <a:stretch/>
        </p:blipFill>
        <p:spPr>
          <a:xfrm>
            <a:off x="762120" y="2338560"/>
            <a:ext cx="6859440" cy="40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日期占位符 3"/>
          <p:cNvSpPr/>
          <p:nvPr/>
        </p:nvSpPr>
        <p:spPr>
          <a:xfrm>
            <a:off x="7010280" y="65509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灯片编号占位符 4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1A60F-C157-41B4-B169-87AA45BE891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页脚占位符 5"/>
          <p:cNvSpPr/>
          <p:nvPr/>
        </p:nvSpPr>
        <p:spPr>
          <a:xfrm>
            <a:off x="762120" y="6307560"/>
            <a:ext cx="83818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3366"/>
                </a:solidFill>
                <a:latin typeface="Times New Roman"/>
                <a:ea typeface="黑体"/>
              </a:rPr>
              <a:t>上海市信息中心汽车产业研究室</a:t>
            </a:r>
            <a:br>
              <a:rPr sz="1500"/>
            </a:b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地址：华山路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1076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号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号楼    邮编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200050  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电话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62123126  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传真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52383989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  <a:ea typeface="黑体"/>
              </a:rPr>
              <a:t> 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2016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</a:rPr>
              <a:t>月</a:t>
            </a:r>
            <a:r>
              <a:rPr b="1" lang="zh-CN" sz="3200" spc="-1" strike="noStrike">
                <a:solidFill>
                  <a:srgbClr val="006666"/>
                </a:solidFill>
                <a:latin typeface="宋体"/>
              </a:rPr>
              <a:t>上海上牌进口车来源国情况</a:t>
            </a: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900000" y="2421000"/>
          <a:ext cx="6678720" cy="3678120"/>
        </p:xfrm>
        <a:graphic>
          <a:graphicData uri="http://schemas.openxmlformats.org/drawingml/2006/table">
            <a:tbl>
              <a:tblPr/>
              <a:tblGrid>
                <a:gridCol w="1209960"/>
                <a:gridCol w="1093680"/>
                <a:gridCol w="1093680"/>
                <a:gridCol w="1093680"/>
                <a:gridCol w="1094040"/>
                <a:gridCol w="1093680"/>
              </a:tblGrid>
              <a:tr h="694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国别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6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环比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同比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6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-1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-1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同比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124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宋体"/>
                        </a:rPr>
                        <a:t>德国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8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.47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.41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8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.41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宋体"/>
                        </a:rPr>
                        <a:t>日本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.86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8.68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8.68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宋体"/>
                        </a:rPr>
                        <a:t>美国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.11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.81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.81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宋体"/>
                        </a:rPr>
                        <a:t>英国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.19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6.11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6.11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宋体"/>
                        </a:rPr>
                        <a:t>瑞典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.27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.94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.94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宋体"/>
                        </a:rPr>
                        <a:t>意大利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3.96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.65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.65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宋体"/>
                        </a:rPr>
                        <a:t>法国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.79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.58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.58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宋体"/>
                        </a:rPr>
                        <a:t>韩国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2.00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.14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.14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宋体"/>
                        </a:rPr>
                        <a:t>捷克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.33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0.00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0.00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合计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5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.12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.27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5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.27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日期占位符 3"/>
          <p:cNvSpPr/>
          <p:nvPr/>
        </p:nvSpPr>
        <p:spPr>
          <a:xfrm>
            <a:off x="7010280" y="65509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灯片编号占位符 4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7E73B-9141-497F-BB3C-55DAEB5BB02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页脚占位符 5"/>
          <p:cNvSpPr/>
          <p:nvPr/>
        </p:nvSpPr>
        <p:spPr>
          <a:xfrm>
            <a:off x="762120" y="6307560"/>
            <a:ext cx="83818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3366"/>
                </a:solidFill>
                <a:latin typeface="Times New Roman"/>
                <a:ea typeface="黑体"/>
              </a:rPr>
              <a:t>上海市信息中心汽车产业研究室</a:t>
            </a:r>
            <a:br>
              <a:rPr sz="1500"/>
            </a:b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地址：华山路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1076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号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号楼    邮编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200050  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电话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62123126  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传真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52383989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  <a:ea typeface="黑体"/>
              </a:rPr>
              <a:t> 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2016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</a:rPr>
              <a:t>月</a:t>
            </a:r>
            <a:r>
              <a:rPr b="1" lang="zh-CN" sz="3200" spc="-1" strike="noStrike">
                <a:solidFill>
                  <a:srgbClr val="006666"/>
                </a:solidFill>
                <a:latin typeface="宋体"/>
              </a:rPr>
              <a:t>上海国产轿车分类型上牌情况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914400" y="2362320"/>
          <a:ext cx="6603840" cy="3790800"/>
        </p:xfrm>
        <a:graphic>
          <a:graphicData uri="http://schemas.openxmlformats.org/drawingml/2006/table">
            <a:tbl>
              <a:tblPr/>
              <a:tblGrid>
                <a:gridCol w="1333440"/>
                <a:gridCol w="1054080"/>
                <a:gridCol w="1054080"/>
                <a:gridCol w="1054080"/>
                <a:gridCol w="1054080"/>
                <a:gridCol w="1054080"/>
              </a:tblGrid>
              <a:tr h="695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类型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6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环比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同比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6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-1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-1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同比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15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豪华型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9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.31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.16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9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.16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中高级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79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.82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1.62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79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1.62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6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中级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8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5.59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.20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8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.20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普及型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97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.34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.63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97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.63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微型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8.15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6.34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6.34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合计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4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.97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.37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4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.37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日期占位符 3"/>
          <p:cNvSpPr/>
          <p:nvPr/>
        </p:nvSpPr>
        <p:spPr>
          <a:xfrm>
            <a:off x="7010280" y="65509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灯片编号占位符 4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A4A45-0280-4080-BC9D-F9222EDD747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页脚占位符 5"/>
          <p:cNvSpPr/>
          <p:nvPr/>
        </p:nvSpPr>
        <p:spPr>
          <a:xfrm>
            <a:off x="762120" y="6307560"/>
            <a:ext cx="83818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3366"/>
                </a:solidFill>
                <a:latin typeface="Times New Roman"/>
                <a:ea typeface="黑体"/>
              </a:rPr>
              <a:t>上海市信息中心汽车产业研究室</a:t>
            </a:r>
            <a:br>
              <a:rPr sz="1500"/>
            </a:b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地址：华山路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1076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号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号楼    邮编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200050  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电话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62123126  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传真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52383989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  <a:ea typeface="黑体"/>
              </a:rPr>
              <a:t> 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2016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</a:rPr>
              <a:t>月</a:t>
            </a:r>
            <a:r>
              <a:rPr b="1" lang="zh-CN" sz="3100" spc="-1" strike="noStrike">
                <a:solidFill>
                  <a:srgbClr val="006666"/>
                </a:solidFill>
                <a:latin typeface="Arial"/>
              </a:rPr>
              <a:t>上海国产小客车分类型上牌情况</a:t>
            </a:r>
            <a:endParaRPr b="1" lang="en-US" sz="31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843120" y="2421000"/>
          <a:ext cx="6681600" cy="3446280"/>
        </p:xfrm>
        <a:graphic>
          <a:graphicData uri="http://schemas.openxmlformats.org/drawingml/2006/table">
            <a:tbl>
              <a:tblPr/>
              <a:tblGrid>
                <a:gridCol w="1506240"/>
                <a:gridCol w="1035360"/>
                <a:gridCol w="1035000"/>
                <a:gridCol w="1035000"/>
                <a:gridCol w="1035000"/>
                <a:gridCol w="1035000"/>
              </a:tblGrid>
              <a:tr h="695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类型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6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环比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同比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6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-1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-1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同比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55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MPV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4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.47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.65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4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.65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V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67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.38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6.73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67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6.73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一般小客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5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1.48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.23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5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.23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合计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07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.37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.50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07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.50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034"/>
          <p:cNvSpPr/>
          <p:nvPr/>
        </p:nvSpPr>
        <p:spPr>
          <a:xfrm>
            <a:off x="9360" y="6358680"/>
            <a:ext cx="587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1D6D7-6B9F-42E7-B292-8343EECE90E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"/>
              </a:rPr>
              <a:t>The  End</a:t>
            </a:r>
            <a:r>
              <a:rPr b="1" lang="zh-CN" sz="6000" spc="-1" strike="noStrike">
                <a:solidFill>
                  <a:srgbClr val="003366"/>
                </a:solidFill>
                <a:latin typeface="Arial"/>
              </a:rPr>
              <a:t>！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6666"/>
                </a:solidFill>
                <a:latin typeface="Arial"/>
              </a:rPr>
              <a:t>谢谢！</a:t>
            </a:r>
            <a:endParaRPr b="0" lang="en-US" sz="8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4:51:24Z</dcterms:created>
  <dc:creator>Rafael</dc:creator>
  <dc:description/>
  <dc:language>en-US</dc:language>
  <cp:lastModifiedBy>Administrator</cp:lastModifiedBy>
  <dcterms:modified xsi:type="dcterms:W3CDTF">2016-02-03T01:54:51Z</dcterms:modified>
  <cp:revision>501</cp:revision>
  <dc:subject/>
  <dc:title>上海市信息中心汽车产业研究室</dc:title>
</cp:coreProperties>
</file>