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3BC-54E2-4F2D-B3D4-B3E434EE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C30-A743-4F11-B3B8-8F033498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8713-84F1-4929-98FA-E3B0A041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041-8D07-43F9-8E61-69A64ACE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EA2-7176-4782-ADD7-19A821C5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B52-3765-4702-902E-4CEF02CB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552-43AC-4DDD-8E55-D03B0915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413-BA2A-4637-B2C2-7C4A70CB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AB8-5000-47B4-915B-6BE35B55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8BD-F0B6-4474-AF6A-FB281ED1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3F1-C0B3-4C63-A29B-C2ED19A7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179-293D-4A32-A3A4-33583E71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E0B1-2748-4A91-B204-76D4982A8C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02:57:50Z</dcterms:created>
  <dc:creator>Thinkpad</dc:creator>
  <dc:description/>
  <dc:language>en-US</dc:language>
  <cp:lastModifiedBy>Thinkpad</cp:lastModifiedBy>
  <dcterms:modified xsi:type="dcterms:W3CDTF">2016-02-05T03:02:3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