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1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 type="sldNum" idx="1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497E-A1F4-4C59-A683-4923ABBF2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技术部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F781-8A8A-43B2-BB49-E47E06AA55DB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技术部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DF3-4522-46F6-8EA5-1CFD707731D2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技术部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8126-C920-46AB-8DA9-1BF6B3906C52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技术部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6D48-86EA-4605-9971-38A216C5DD54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比下降这次协会给的综述的表里没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A366-41B1-4DA9-A352-EEEA11DEB423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全口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累计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8E25-D750-4880-820D-4F5E05D3ABFD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6323-E7DA-4729-8BE4-BE09AEFDB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BF7F-4315-4427-B3A6-180DD9D92C2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DB8B4-62CF-4DB2-B5FF-0BE845E8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40E314-E7B8-4C03-A027-1E8FA071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536481-D03D-447E-9B5E-46A9D386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9E9210-935F-4035-B5D5-2D7402C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DFEE91-84B7-447D-B45A-90049439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F1FAFA-4FE3-46AF-9AF7-EDE5E86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C44BBC-DACB-44F7-A2B9-20385A13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FC898-F3E9-4293-B865-AE7C1D51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912FE9-6B97-4333-8BB3-46C39356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C5DF-8044-4A8C-AF49-65465FBD7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E15E-1D7D-419C-A4E9-5A86ACCD2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0CBC-986C-4B2E-8541-3D448EA7F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BEBE-95D0-4A65-83FB-6E6429B524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218E-71EE-45B8-817C-B6B6E7A853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C1FC6-0554-4DB1-8768-73150FAF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BF9D-DA44-4769-9576-14EB243F21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8E9C5-69B0-4116-B6F0-882EF94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148FC-3650-4366-8421-EA76A127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4B577-C7AB-4880-8CC5-7B4DE63C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6B07E-8EE4-431D-9D43-67DBBEE0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BCCFA-567A-4E0F-A98A-4C274E42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0837E-5695-4EE1-8308-4EE64AB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09347-5EE0-45AE-B515-68213A40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2E04F-54C0-42C3-AB70-3FFAA50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76CFF-DC2A-4CAC-92E2-0E855823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03716-98F7-4056-8CD5-0A94D5DE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1935-80D1-4F6A-9168-F2A5D5D810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DB2B0-78AE-42B0-B3E0-0689194A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5EEC4-710E-4ADD-81EB-7CBD363F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5C3B9-7E09-4970-811E-55449E7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23589C-7C57-46C7-8683-846FBD1F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B83A5-1F6D-4B39-AB9B-54FB2B9B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4DCC2-236F-4A44-8AB9-35691703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C4DE7-AE84-4201-8E3C-D9E283F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3CE8D-B067-4D0F-A3AC-AF8C0B5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12D3E-0026-4656-AC9A-D44A068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69034-7F3F-4A90-9C2B-E4F3D85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0652-B2A5-456E-8948-82E73E6A10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B6231-8C22-49BA-99C7-A765372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30B6D-87DA-42E6-9841-D4AA88DE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C7C8C-ACFB-4F9F-B648-A5CAEB2C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21687-140A-485F-9BA8-EAB23622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F5864-CBD2-4FD9-9FD3-7C759369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D7FEF-7FCB-46CA-B6B4-DC59ADFE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BE60C-871B-473A-915C-DE64A438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FEACC-4D96-485C-80A1-2C0950DC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AA4BE-95ED-4871-B592-C068CED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2B91C-D99D-4064-9962-DB66D287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51DE-7120-476F-8B75-931BAAE36FB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BA3A0-8760-48A1-8BE6-7C89E33F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049F5-EDF0-41BB-8337-13534CB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B143E-8331-48B2-91BD-7024C6D9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04F9F-ED8B-411B-8C1F-C1B64A09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A466E-F753-4224-A408-1EDAC6FC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3CC6F-7D65-416E-A44B-E85706A8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C2AF9-7E26-455F-AB33-6EBC3018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A91F9-4DB1-46B8-BA80-E87DEFD9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668DAF-1FFF-42BF-BBAD-65E5AC4C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5C166-2FBE-4FDF-BB3F-65561EF0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B792-903D-4B5E-9A19-57FBBE5BEE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6EEDB7-F754-44C5-9DB8-14CD10CF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CAAD8-F696-41CE-8BB8-BF3E008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092C2A-E8C6-4089-BBF3-3A318048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0AA858-91AA-4632-859F-03525FA0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44CD17-F583-4F17-B6A6-E39FFABD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BB77B-6658-459F-9077-C2D81E47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2D673-3331-4616-88A5-ADE4B15A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82B785-1407-433F-BEF9-D969A9EB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56113-EE04-44FC-936E-6F8EB58A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9057BC-9BFF-4D46-9A81-8A2E68BA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38A7B78-9870-4300-8990-BDA73E4F9D7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4322880"/>
            <a:ext cx="9144000" cy="25383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75a3d1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22" descr="SC0363"/>
          <p:cNvPicPr/>
          <p:nvPr/>
        </p:nvPicPr>
        <p:blipFill>
          <a:blip r:embed="rId2"/>
          <a:srcRect l="0" t="0" r="14439" b="0"/>
          <a:stretch/>
        </p:blipFill>
        <p:spPr>
          <a:xfrm>
            <a:off x="0" y="4343400"/>
            <a:ext cx="9144000" cy="252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080c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75a3d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34" descr="SC0363"/>
          <p:cNvPicPr/>
          <p:nvPr/>
        </p:nvPicPr>
        <p:blipFill>
          <a:blip r:embed="rId5"/>
          <a:srcRect l="14438" t="56240" r="47251" b="16122"/>
          <a:stretch/>
        </p:blipFill>
        <p:spPr>
          <a:xfrm>
            <a:off x="0" y="95256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6400800" y="5929200"/>
            <a:ext cx="274320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4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D3F1-1656-4B94-B60A-38432720AB8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7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E71-775A-49D1-B952-C27011F17F3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EC92-700B-43EC-B1CB-2D7BE64219A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3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1A32-DEA9-463C-9719-C21F7294FE0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6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1D1-5E89-4B2A-A4C2-1598AF5590C7}" type="slidenum">
              <a:rPr b="1" lang="zh-CN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2" descr="协会LOGO矢量图"/>
          <p:cNvPicPr/>
          <p:nvPr/>
        </p:nvPicPr>
        <p:blipFill>
          <a:blip r:embed="rId1"/>
          <a:stretch/>
        </p:blipFill>
        <p:spPr>
          <a:xfrm>
            <a:off x="206280" y="849240"/>
            <a:ext cx="714600" cy="804960"/>
          </a:xfrm>
          <a:prstGeom prst="rect">
            <a:avLst/>
          </a:prstGeom>
          <a:ln w="0">
            <a:noFill/>
          </a:ln>
        </p:spPr>
      </p:pic>
      <p:sp>
        <p:nvSpPr>
          <p:cNvPr id="394" name="矩形 6"/>
          <p:cNvSpPr/>
          <p:nvPr/>
        </p:nvSpPr>
        <p:spPr>
          <a:xfrm>
            <a:off x="357120" y="127800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865080" y="963720"/>
            <a:ext cx="30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中国汽车流通协会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96" name="矩形 8" descr=""/>
          <p:cNvPicPr/>
          <p:nvPr/>
        </p:nvPicPr>
        <p:blipFill>
          <a:blip r:embed="rId2"/>
          <a:stretch/>
        </p:blipFill>
        <p:spPr>
          <a:xfrm>
            <a:off x="1736640" y="2432160"/>
            <a:ext cx="60850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1" descr=""/>
          <p:cNvPicPr/>
          <p:nvPr/>
        </p:nvPicPr>
        <p:blipFill>
          <a:blip r:embed="rId1"/>
          <a:stretch/>
        </p:blipFill>
        <p:spPr>
          <a:xfrm>
            <a:off x="336600" y="1157400"/>
            <a:ext cx="843588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标题 1"/>
          <p:cNvSpPr/>
          <p:nvPr/>
        </p:nvSpPr>
        <p:spPr>
          <a:xfrm>
            <a:off x="-96840" y="409680"/>
            <a:ext cx="7605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八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市场车辆使用年限分析</a:t>
            </a:r>
            <a:br>
              <a:rPr sz="2400"/>
            </a:b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TextBox 11"/>
          <p:cNvSpPr/>
          <p:nvPr/>
        </p:nvSpPr>
        <p:spPr>
          <a:xfrm>
            <a:off x="471600" y="1101600"/>
            <a:ext cx="79801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2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市场车辆使用年限分析：使用年限在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-6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的交易量最多，占比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66.97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其次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内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8.49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6-10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5.31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以上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9.23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25" name="图表 3" descr=""/>
          <p:cNvPicPr/>
          <p:nvPr/>
        </p:nvPicPr>
        <p:blipFill>
          <a:blip r:embed="rId1"/>
          <a:stretch/>
        </p:blipFill>
        <p:spPr>
          <a:xfrm>
            <a:off x="1305000" y="2554200"/>
            <a:ext cx="5973840" cy="267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图表 6"/>
          <p:cNvGraphicFramePr/>
          <p:nvPr/>
        </p:nvGraphicFramePr>
        <p:xfrm>
          <a:off x="630360" y="2263680"/>
          <a:ext cx="7662600" cy="4065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7" name="图表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360" y="2263680"/>
                    <a:ext cx="766260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6799320" cy="519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九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价格分析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TextBox 11"/>
          <p:cNvSpPr/>
          <p:nvPr/>
        </p:nvSpPr>
        <p:spPr>
          <a:xfrm>
            <a:off x="374760" y="1162080"/>
            <a:ext cx="813276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85840" indent="-28584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2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市场交易价格分析：交易价格在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以内的占比最大，占比为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43.74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3-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占比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8.97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-1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占比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.34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以上占比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6.95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整体交易量与交易价格呈现线性关系；非常有意思的是，人们在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3-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-1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间选择时，选择后者数量更多一些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0" name="图表 4" descr=""/>
          <p:cNvPicPr/>
          <p:nvPr/>
        </p:nvPicPr>
        <p:blipFill>
          <a:blip r:embed="rId1"/>
          <a:stretch/>
        </p:blipFill>
        <p:spPr>
          <a:xfrm>
            <a:off x="590400" y="2193840"/>
            <a:ext cx="80661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6799320" cy="519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十、“限迁”基本情况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TextBox 11"/>
          <p:cNvSpPr/>
          <p:nvPr/>
        </p:nvSpPr>
        <p:spPr>
          <a:xfrm>
            <a:off x="260280" y="1405080"/>
            <a:ext cx="8298000" cy="1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85840" indent="-28584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截止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，全国共有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99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城市对迁入机动车有排放限制。目前实施国五排放标准城市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8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，实施国四标准的城市共有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30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，国三排放标准的城市有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44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，国二以下标准的城市有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，就在这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城市中还有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城市要求初次登记日期不得超过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至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。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6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日开始执行国五排放标准的新增省、直辖市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1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，下辖城市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87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，届时二手车迁入实施国五排放标准的城市将达到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5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。</a:t>
            </a:r>
            <a:endParaRPr b="0" i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1"/>
          <p:cNvSpPr/>
          <p:nvPr/>
        </p:nvSpPr>
        <p:spPr>
          <a:xfrm>
            <a:off x="374760" y="1162080"/>
            <a:ext cx="829764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ts val="36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目前我国二手车交易中，正常水平的跨区域流通比例约为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%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左右。然而由于各地的限迁，这个比例被人为压缩。</a:t>
            </a:r>
            <a:endParaRPr b="0" i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ts val="36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据公安部披露的数据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量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720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转籍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17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转籍比例为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6.25%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；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770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转籍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28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转籍比例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6.62%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；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4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随着全国大面积限迁，这个比例出现了明显的下降，二手车交易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955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转籍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19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转籍比例下降至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12.46%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。</a:t>
            </a:r>
            <a:endParaRPr b="0" i="1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ts val="36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从北京二手车外迁情况看，随着各地实施限迁，二手车外迁比例明显下滑。据亚运村汽车交易市场发布的数据，北京在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、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、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4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、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迁出比例分别为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52%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40%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38%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和</a:t>
            </a:r>
            <a:r>
              <a:rPr b="0" lang="en-US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35%</a:t>
            </a:r>
            <a:r>
              <a:rPr b="0" lang="zh-CN" sz="20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。</a:t>
            </a:r>
            <a:endParaRPr b="0" i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6799320" cy="519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十一、实施国五排放要求的城市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57080" y="1171440"/>
          <a:ext cx="7929720" cy="5294520"/>
        </p:xfrm>
        <a:graphic>
          <a:graphicData uri="http://schemas.openxmlformats.org/drawingml/2006/table">
            <a:tbl>
              <a:tblPr/>
              <a:tblGrid>
                <a:gridCol w="735120"/>
                <a:gridCol w="1006560"/>
                <a:gridCol w="6188040"/>
              </a:tblGrid>
              <a:tr h="228600">
                <a:tc gridSpan="3"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实施国五排放要求的城市共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北京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上海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石家庄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初次登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以上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唐山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初次登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以上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邢台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秦皇岛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廊坊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，不符合标准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邯郸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邯郸：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平头车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衡水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衡水：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，不得转籍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沧州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定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，且初次登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以上的不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张家口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，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承德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注册登记已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的各类营运车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沈阳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初次登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以上且使用性质为货运的相关车辆、初次登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以上的相关车辆不允许迁入；不符合标准的，需买方写保证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南京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吨以上车辆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吨以下车辆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柴油车辆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需买方写保证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南通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；不符合标准的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7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广州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符合标准的，需要迁入地车管所接收函才能办理过户手续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鹰潭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排放标准，不符合标准的不允许迁入</a:t>
                      </a:r>
                      <a:endParaRPr b="0" i="1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2"/>
          <p:cNvSpPr/>
          <p:nvPr/>
        </p:nvSpPr>
        <p:spPr>
          <a:xfrm>
            <a:off x="2979720" y="2054160"/>
            <a:ext cx="28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33"/>
                </a:solidFill>
                <a:latin typeface="华文行楷"/>
                <a:ea typeface="华文行楷"/>
              </a:rPr>
              <a:t>谢 谢！</a:t>
            </a:r>
            <a:endParaRPr b="0" i="1" lang="en-US" sz="8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图表 7"/>
          <p:cNvGraphicFramePr/>
          <p:nvPr/>
        </p:nvGraphicFramePr>
        <p:xfrm>
          <a:off x="657360" y="2392200"/>
          <a:ext cx="78120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392200"/>
                    <a:ext cx="78120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9" name="图片 1" descr=""/>
          <p:cNvPicPr/>
          <p:nvPr/>
        </p:nvPicPr>
        <p:blipFill>
          <a:blip r:embed="rId3"/>
          <a:stretch/>
        </p:blipFill>
        <p:spPr>
          <a:xfrm>
            <a:off x="3716280" y="3019320"/>
            <a:ext cx="847800" cy="7048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"/>
          <p:cNvSpPr/>
          <p:nvPr/>
        </p:nvSpPr>
        <p:spPr>
          <a:xfrm>
            <a:off x="0" y="450720"/>
            <a:ext cx="8002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一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全年二手车市场整体表现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577800" y="1117440"/>
            <a:ext cx="7970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2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，全国二手车市场累计交易量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941.7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相比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微增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.32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累计交易额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5535.40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亿元；其中，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当月交易量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1.68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环比上升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.13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；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当月交易额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611.19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亿元，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环比上升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1.51</a:t>
            </a:r>
            <a:r>
              <a:rPr b="0" lang="en-US" sz="1600" spc="-1" strike="noStrike">
                <a:solidFill>
                  <a:srgbClr val="606060"/>
                </a:solidFill>
                <a:latin typeface="微软雅黑"/>
                <a:ea typeface="微软雅黑"/>
              </a:rPr>
              <a:t>%</a:t>
            </a:r>
            <a:r>
              <a:rPr b="0" lang="zh-CN" sz="1600" spc="-1" strike="noStrike">
                <a:solidFill>
                  <a:srgbClr val="606060"/>
                </a:solidFill>
                <a:latin typeface="微软雅黑"/>
                <a:ea typeface="微软雅黑"/>
              </a:rPr>
              <a:t>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矩形 6"/>
          <p:cNvSpPr/>
          <p:nvPr/>
        </p:nvSpPr>
        <p:spPr>
          <a:xfrm>
            <a:off x="4334040" y="3244680"/>
            <a:ext cx="1060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黑体"/>
              </a:rPr>
              <a:t>20.13%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文本框 2"/>
          <p:cNvSpPr/>
          <p:nvPr/>
        </p:nvSpPr>
        <p:spPr>
          <a:xfrm>
            <a:off x="7353360" y="2846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位：万辆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8"/>
          <p:cNvSpPr/>
          <p:nvPr/>
        </p:nvSpPr>
        <p:spPr>
          <a:xfrm>
            <a:off x="276120" y="291960"/>
            <a:ext cx="5703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二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2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市场整体表现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05" name="图表 4" descr=""/>
          <p:cNvPicPr/>
          <p:nvPr/>
        </p:nvPicPr>
        <p:blipFill>
          <a:blip r:embed="rId1"/>
          <a:stretch/>
        </p:blipFill>
        <p:spPr>
          <a:xfrm>
            <a:off x="676440" y="1407960"/>
            <a:ext cx="8113680" cy="463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8"/>
          <p:cNvSpPr/>
          <p:nvPr/>
        </p:nvSpPr>
        <p:spPr>
          <a:xfrm>
            <a:off x="276120" y="291960"/>
            <a:ext cx="6453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三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至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市场整体表现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07" name="图表 3" descr=""/>
          <p:cNvPicPr/>
          <p:nvPr/>
        </p:nvPicPr>
        <p:blipFill>
          <a:blip r:embed="rId1"/>
          <a:stretch/>
        </p:blipFill>
        <p:spPr>
          <a:xfrm>
            <a:off x="792000" y="1268280"/>
            <a:ext cx="8102880" cy="4956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表 7" descr=""/>
          <p:cNvPicPr/>
          <p:nvPr/>
        </p:nvPicPr>
        <p:blipFill>
          <a:blip r:embed="rId1"/>
          <a:stretch/>
        </p:blipFill>
        <p:spPr>
          <a:xfrm>
            <a:off x="1054080" y="2603520"/>
            <a:ext cx="6840720" cy="38275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64008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四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量区域分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568440" y="1231920"/>
            <a:ext cx="7813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2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全国二手车交易情况区域分布：华东区占比最大，占比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2.38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其次为中南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9.98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华北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9.55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 西南地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5.59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东北地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41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西北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5.10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；东部经济发达地区的华东、华北区共占总交易量的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51.92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表 4" descr=""/>
          <p:cNvPicPr/>
          <p:nvPr/>
        </p:nvPicPr>
        <p:blipFill>
          <a:blip r:embed="rId1"/>
          <a:stretch/>
        </p:blipFill>
        <p:spPr>
          <a:xfrm>
            <a:off x="639720" y="1109520"/>
            <a:ext cx="7662960" cy="4810320"/>
          </a:xfrm>
          <a:prstGeom prst="rect">
            <a:avLst/>
          </a:prstGeom>
          <a:ln w="0">
            <a:noFill/>
          </a:ln>
        </p:spPr>
      </p:pic>
      <p:sp>
        <p:nvSpPr>
          <p:cNvPr id="412" name="矩形 5"/>
          <p:cNvSpPr/>
          <p:nvPr/>
        </p:nvSpPr>
        <p:spPr>
          <a:xfrm>
            <a:off x="6816600" y="2205000"/>
            <a:ext cx="130500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位：万辆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8"/>
          <p:cNvSpPr/>
          <p:nvPr/>
        </p:nvSpPr>
        <p:spPr>
          <a:xfrm>
            <a:off x="112680" y="425520"/>
            <a:ext cx="6023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五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量省市分布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TextBox 11"/>
          <p:cNvSpPr/>
          <p:nvPr/>
        </p:nvSpPr>
        <p:spPr>
          <a:xfrm>
            <a:off x="539640" y="1133640"/>
            <a:ext cx="8105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1360" indent="-17136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2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全国二手车交易情况：广东交易量占比最大，为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9.98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其次为江苏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78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四川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72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北京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20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山东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17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浙江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11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前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大地区占总交易量的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66.23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从趋势图来看，广东、江苏、四川、北京、山东、浙江在全国的交易量占比中稳居前列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5" name="图表 4" descr=""/>
          <p:cNvPicPr/>
          <p:nvPr/>
        </p:nvPicPr>
        <p:blipFill>
          <a:blip r:embed="rId1"/>
          <a:stretch/>
        </p:blipFill>
        <p:spPr>
          <a:xfrm>
            <a:off x="536400" y="2401920"/>
            <a:ext cx="8363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8"/>
          <p:cNvSpPr/>
          <p:nvPr/>
        </p:nvSpPr>
        <p:spPr>
          <a:xfrm>
            <a:off x="0" y="382680"/>
            <a:ext cx="572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六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车型分析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TextBox 11"/>
          <p:cNvSpPr/>
          <p:nvPr/>
        </p:nvSpPr>
        <p:spPr>
          <a:xfrm>
            <a:off x="457200" y="1146240"/>
            <a:ext cx="8159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1360" indent="-17136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2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全国二手车车型分析：基本型乘用车仍为主要流通车型，占比为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9.91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其次为客车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2.49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货车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1.35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SUV5.02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MPV3.77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；其中，相比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，基本型乘用车、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SUV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摩托车、挂车占全部交易的比例均有所增加，客车、货车、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MPV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交叉型车、其它车比例均有所下降， 低速载货车占比与去年基本持平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18" name="图表 5" descr=""/>
          <p:cNvPicPr/>
          <p:nvPr/>
        </p:nvPicPr>
        <p:blipFill>
          <a:blip r:embed="rId1"/>
          <a:stretch/>
        </p:blipFill>
        <p:spPr>
          <a:xfrm>
            <a:off x="676440" y="2523960"/>
            <a:ext cx="772452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8"/>
          <p:cNvSpPr/>
          <p:nvPr/>
        </p:nvSpPr>
        <p:spPr>
          <a:xfrm>
            <a:off x="0" y="322200"/>
            <a:ext cx="6913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七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量排名前十的车系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493560" y="1184400"/>
            <a:ext cx="8217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1360" indent="-17136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2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最受欢迎的二手车排行榜依次为：五菱之光、长安之星、捷达、夏利、凯越、雅阁、奥迪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A6L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乐驰、奇瑞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A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宝来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; 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其中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款为紧凑型小客车，价格较低，流通性较强；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款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级车（凯越、雅阁、奥迪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A6L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）也入围前十名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21" name="图表 4" descr=""/>
          <p:cNvPicPr/>
          <p:nvPr/>
        </p:nvPicPr>
        <p:blipFill>
          <a:blip r:embed="rId1"/>
          <a:stretch/>
        </p:blipFill>
        <p:spPr>
          <a:xfrm>
            <a:off x="1011240" y="2535120"/>
            <a:ext cx="74073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yirenyxj</dc:creator>
  <dc:description/>
  <dc:language>en-US</dc:language>
  <cp:lastModifiedBy>admin</cp:lastModifiedBy>
  <dcterms:modified xsi:type="dcterms:W3CDTF">2016-02-01T04:27:13Z</dcterms:modified>
  <cp:revision>873</cp:revision>
  <dc:subject/>
  <dc:title>ppt.glzy8.com提供海量PPT模板免费下载！</dc:title>
</cp:coreProperties>
</file>