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A4098-5864-40AD-9FEB-DD4B5663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415332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23162-2D03-4E9D-8152-35C03730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1372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CA9AE-4E53-49BC-9852-59BCE4F7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94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48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C5562-FB79-4CAC-82BB-5F2D895B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AC1F-B593-4C34-BAB5-D5B3369D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AC81-0B41-4EBF-AFD2-317D5891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36F0-8157-4749-990B-BC341F24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0803-3220-433B-A236-690B75A2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921E-6780-4E42-B9FC-9046B4EB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439A-FEFC-4BBA-89C4-03EE6D7C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B977-B719-418D-A941-35E4D8EE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18F4A-7B60-4F5F-A0EC-50A3BC75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1372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E634-4CAD-4158-BA2D-768C8A2F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8612-529A-4101-B9BA-C77256F3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040" y="415332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7F2C-7133-4A66-8E9D-383A2DF9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1372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6AE8-9F57-4CEA-AE90-1273CF54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0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94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48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B9E0-4443-43EA-8514-492E6DBF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9076A-36EC-4DFD-AFD6-4F3810E1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0DBFE-D9A2-4AA4-9E1D-FCF763CA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5BA25-0CF4-4673-AB68-DC988CE4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5536F-6C8B-4691-B13A-B3FFC027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BDA90-2BE8-4786-9DDD-DDDC2384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1372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0A081-867A-4743-BDB4-CF3DF745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6B7FA-8D01-41EE-A774-ED051D55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0C01-25DB-4797-A37B-339C5F6A4DC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9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" name="Rectangle 17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ftr" idx="3"/>
          </p:nvPr>
        </p:nvSpPr>
        <p:spPr>
          <a:xfrm>
            <a:off x="76176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5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6251117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026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AutoShape 1027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1" name="Group 1029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1030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1031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1B86-F37A-46F0-A4C6-A980D3B1B50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34"/>
          <p:cNvSpPr/>
          <p:nvPr/>
        </p:nvSpPr>
        <p:spPr>
          <a:xfrm>
            <a:off x="9360" y="6358680"/>
            <a:ext cx="58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27FF-4DF6-473E-8AE6-5D8419125A8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2016</a:t>
            </a:r>
            <a:r>
              <a:rPr b="1" lang="zh-CN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年</a:t>
            </a:r>
            <a:r>
              <a:rPr b="1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2</a:t>
            </a:r>
            <a:r>
              <a:rPr b="1" lang="zh-CN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月上海汽车市场上牌情况</a:t>
            </a:r>
            <a:br>
              <a:rPr sz="3600"/>
            </a:br>
            <a:r>
              <a:rPr b="1" lang="zh-CN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及上海市场消费特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46520" y="3644640"/>
            <a:ext cx="3741840" cy="11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华文楷体"/>
                <a:ea typeface="华文楷体"/>
              </a:rPr>
              <a:t>上海市信息中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华文楷体"/>
                <a:ea typeface="华文楷体"/>
              </a:rPr>
              <a:t>汽车产业研究室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1211-B998-46BF-8467-80B23140D85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016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月上海各车型</a:t>
            </a:r>
            <a:r>
              <a:rPr b="1" lang="zh-CN" sz="3200" spc="-1" strike="noStrike">
                <a:solidFill>
                  <a:srgbClr val="006666"/>
                </a:solidFill>
                <a:latin typeface="宋体"/>
              </a:rPr>
              <a:t>上牌量同比情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Rectangle 1028"/>
          <p:cNvSpPr/>
          <p:nvPr/>
        </p:nvSpPr>
        <p:spPr>
          <a:xfrm>
            <a:off x="2584440" y="48096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Rectangle 1035"/>
          <p:cNvSpPr/>
          <p:nvPr/>
        </p:nvSpPr>
        <p:spPr>
          <a:xfrm>
            <a:off x="2584440" y="101916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1042"/>
          <p:cNvSpPr/>
          <p:nvPr/>
        </p:nvSpPr>
        <p:spPr>
          <a:xfrm>
            <a:off x="2584440" y="47160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Rectangle 1049"/>
          <p:cNvSpPr/>
          <p:nvPr/>
        </p:nvSpPr>
        <p:spPr>
          <a:xfrm>
            <a:off x="2584440" y="83664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Rectangle 1056"/>
          <p:cNvSpPr/>
          <p:nvPr/>
        </p:nvSpPr>
        <p:spPr>
          <a:xfrm>
            <a:off x="2584440" y="47160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Rectangle 1063"/>
          <p:cNvSpPr/>
          <p:nvPr/>
        </p:nvSpPr>
        <p:spPr>
          <a:xfrm>
            <a:off x="2584440" y="47160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ectangle 1070"/>
          <p:cNvSpPr/>
          <p:nvPr/>
        </p:nvSpPr>
        <p:spPr>
          <a:xfrm>
            <a:off x="2584440" y="47160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Rectangle 1077"/>
          <p:cNvSpPr/>
          <p:nvPr/>
        </p:nvSpPr>
        <p:spPr>
          <a:xfrm>
            <a:off x="2584440" y="47160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14400" y="2362320"/>
          <a:ext cx="6608880" cy="3938400"/>
        </p:xfrm>
        <a:graphic>
          <a:graphicData uri="http://schemas.openxmlformats.org/drawingml/2006/table">
            <a:tbl>
              <a:tblPr/>
              <a:tblGrid>
                <a:gridCol w="1353960"/>
                <a:gridCol w="1051200"/>
                <a:gridCol w="1050840"/>
                <a:gridCol w="1050840"/>
                <a:gridCol w="1050840"/>
                <a:gridCol w="1051200"/>
              </a:tblGrid>
              <a:tr h="69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类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环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进口小客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（含轿车）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7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7.7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8.4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3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.6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国产轿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7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7.1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2.2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7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.5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小型客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（除轿车）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5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7.7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.9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53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.5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大型客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1.6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.9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.5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小型货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68.1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6.1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9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.0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大型货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5.1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.3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.9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35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7.2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.0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17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.3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F3CA-A050-4144-8179-BD8999FEA4E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1125360"/>
            <a:ext cx="800100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近两年上海车辆月度上牌数累计情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Rectangle 2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Rectangle 23"/>
          <p:cNvSpPr/>
          <p:nvPr/>
        </p:nvSpPr>
        <p:spPr>
          <a:xfrm>
            <a:off x="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27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2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Rectangle 33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Rectangle 35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3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Rectangle 4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19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Rectangle 20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Rectangle 203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20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762120" y="1965240"/>
            <a:ext cx="1090440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36"/>
          <p:cNvSpPr/>
          <p:nvPr/>
        </p:nvSpPr>
        <p:spPr>
          <a:xfrm>
            <a:off x="790560" y="2297160"/>
            <a:ext cx="8088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图片 1" descr=""/>
          <p:cNvPicPr/>
          <p:nvPr/>
        </p:nvPicPr>
        <p:blipFill>
          <a:blip r:embed="rId1"/>
          <a:stretch/>
        </p:blipFill>
        <p:spPr>
          <a:xfrm>
            <a:off x="762120" y="2332080"/>
            <a:ext cx="69832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BD14-4E6A-40BA-9B5A-9BEBCB2EE55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近两年上海车辆月度上牌数量情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ctangle 19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2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Rectangle 23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Rectangle 2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3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33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Rectangle 35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Rectangle 38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Rectangle 40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539640" y="1976400"/>
            <a:ext cx="95122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Rectangle 32"/>
          <p:cNvSpPr/>
          <p:nvPr/>
        </p:nvSpPr>
        <p:spPr>
          <a:xfrm>
            <a:off x="-1114560" y="2325600"/>
            <a:ext cx="5429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图片 1" descr=""/>
          <p:cNvPicPr/>
          <p:nvPr/>
        </p:nvPicPr>
        <p:blipFill>
          <a:blip r:embed="rId1"/>
          <a:stretch/>
        </p:blipFill>
        <p:spPr>
          <a:xfrm>
            <a:off x="826920" y="2360520"/>
            <a:ext cx="673920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0CC5-D5A4-44E3-BCD7-2C74EFA347A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016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6666"/>
                </a:solidFill>
                <a:latin typeface="宋体"/>
              </a:rPr>
              <a:t>上海上牌进口车来源国情况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00000" y="2421000"/>
          <a:ext cx="6678720" cy="3678120"/>
        </p:xfrm>
        <a:graphic>
          <a:graphicData uri="http://schemas.openxmlformats.org/drawingml/2006/table">
            <a:tbl>
              <a:tblPr/>
              <a:tblGrid>
                <a:gridCol w="1209960"/>
                <a:gridCol w="1093680"/>
                <a:gridCol w="1093680"/>
                <a:gridCol w="1093680"/>
                <a:gridCol w="1094040"/>
                <a:gridCol w="1093680"/>
              </a:tblGrid>
              <a:tr h="694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国别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环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12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德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5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.4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.3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4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.0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日本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50.1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.2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.2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美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.1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7.5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.1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英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9.0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.0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8.7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瑞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60.5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50.0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0.7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意大利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62.1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5.6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.7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法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.7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.9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.2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韩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58.3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.0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.2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捷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.0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.4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.6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7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7.7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8.4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3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.6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3697-2D56-4EBF-96CD-7924C1038DB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016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6666"/>
                </a:solidFill>
                <a:latin typeface="宋体"/>
              </a:rPr>
              <a:t>上海国产轿车分类型上牌情况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14400" y="2362320"/>
          <a:ext cx="6603840" cy="3790800"/>
        </p:xfrm>
        <a:graphic>
          <a:graphicData uri="http://schemas.openxmlformats.org/drawingml/2006/table">
            <a:tbl>
              <a:tblPr/>
              <a:tblGrid>
                <a:gridCol w="1333440"/>
                <a:gridCol w="1054080"/>
                <a:gridCol w="1054080"/>
                <a:gridCol w="1054080"/>
                <a:gridCol w="1054080"/>
                <a:gridCol w="1054080"/>
              </a:tblGrid>
              <a:tr h="69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类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环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豪华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58.4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2.8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3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.0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中高级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54.9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6.1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4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.0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中级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6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1.8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1.5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5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.2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普及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0.4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.2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3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.5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微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5.1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51.7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7.0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7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7.1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2.2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7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.5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F136-816B-4153-B7DA-89C27E8CD99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016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月</a:t>
            </a:r>
            <a:r>
              <a:rPr b="1" lang="zh-CN" sz="3100" spc="-1" strike="noStrike">
                <a:solidFill>
                  <a:srgbClr val="006666"/>
                </a:solidFill>
                <a:latin typeface="Arial"/>
              </a:rPr>
              <a:t>上海国产小客车分类型上牌情况</a:t>
            </a:r>
            <a:endParaRPr b="1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843120" y="2421000"/>
          <a:ext cx="6681600" cy="3446280"/>
        </p:xfrm>
        <a:graphic>
          <a:graphicData uri="http://schemas.openxmlformats.org/drawingml/2006/table">
            <a:tbl>
              <a:tblPr/>
              <a:tblGrid>
                <a:gridCol w="1506240"/>
                <a:gridCol w="1035360"/>
                <a:gridCol w="1035000"/>
                <a:gridCol w="1035000"/>
                <a:gridCol w="1035000"/>
                <a:gridCol w="1035000"/>
              </a:tblGrid>
              <a:tr h="69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类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环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55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PV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2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2.6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.7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.7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V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7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54.4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.1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44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.1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一般小客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.3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.7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.5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5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7.7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.9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53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.5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34"/>
          <p:cNvSpPr/>
          <p:nvPr/>
        </p:nvSpPr>
        <p:spPr>
          <a:xfrm>
            <a:off x="9360" y="6358680"/>
            <a:ext cx="58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DEA9-8569-4CC1-BD76-E6855412E1A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The  End</a:t>
            </a:r>
            <a:r>
              <a:rPr b="1" lang="zh-CN" sz="6000" spc="-1" strike="noStrike">
                <a:solidFill>
                  <a:srgbClr val="003366"/>
                </a:solidFill>
                <a:latin typeface="Arial"/>
              </a:rPr>
              <a:t>！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6666"/>
                </a:solidFill>
                <a:latin typeface="Arial"/>
              </a:rPr>
              <a:t>谢谢！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4:51:24Z</dcterms:created>
  <dc:creator>Rafael</dc:creator>
  <dc:description/>
  <dc:language>en-US</dc:language>
  <cp:lastModifiedBy>Administrator</cp:lastModifiedBy>
  <dcterms:modified xsi:type="dcterms:W3CDTF">2016-03-02T06:19:36Z</dcterms:modified>
  <cp:revision>504</cp:revision>
  <dc:subject/>
  <dc:title>上海市信息中心汽车产业研究室</dc:title>
</cp:coreProperties>
</file>