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B10-91A3-4EA6-B5E5-6D1CC47B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9E3-B11F-47AD-829C-C49084AF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4FB-EB0B-415E-9BEE-46CC8131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C97-F09B-4012-A3E4-30ECB852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46A-FD43-481E-A2AC-83E85F89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225-4B81-4D1D-BBB8-748BDA59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59A-B922-495B-A431-D310FFA9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868-56B3-4C2F-B65B-B5552382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4A1-2AB3-45C3-82A9-E1B09147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07B-DBF4-408B-AAF2-44CC573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2D1-F221-447A-BE1D-3F7394E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C48-0C73-4124-A368-11A53D55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2DDF-8C39-46A3-B9CF-820559E203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13:11:27Z</dcterms:created>
  <dc:creator>Thinkpad</dc:creator>
  <dc:description/>
  <dc:language>en-US</dc:language>
  <cp:lastModifiedBy>Thinkpad</cp:lastModifiedBy>
  <dcterms:modified xsi:type="dcterms:W3CDTF">2016-03-07T13:16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