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5D190-BA46-4EF0-99C3-243A6FC60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415332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7BD40-D384-43EF-AE0F-55950F56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1372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FBB71-189B-4E93-821C-14227B63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194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48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77956-7ABA-410C-B0D0-C652597FB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5F7B-198F-4CAC-AB5F-6CA2FB02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894D-7685-4720-97FC-4C7C6E5D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1A90-DCE9-4AAD-A12C-8434DE3C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1FB7-9C3E-4056-814D-695CCAD8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FE6F-3AB6-44DF-8FD8-3AA4CD17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CC5E-E970-41B6-8B76-3DF9DAB9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28CC-BCC2-4CDC-93EA-B0EE0AD1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2C487-7C83-4A02-8A8F-9FE6A1DE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1372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089B-1C1C-41FC-8D5B-2D4F8066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04D7-504E-467D-980C-0A841962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040" y="415332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266D-01C7-4CA8-AB39-3B2F388F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1372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A8EF-469C-4F64-8A87-07FFA24C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0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94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4840" y="4153320"/>
            <a:ext cx="25761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FF8D-7622-469E-B101-167DBBFD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A574E-8B8E-4A3E-9E47-BD04CB79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24EB4-6175-455C-BAF4-9ECF9059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65704-EB1F-4312-8EC6-B7782013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E1286-D319-44A9-B3F7-63E125CD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DF86A-05E9-4AC0-9FA5-BBDF0C73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13720" y="415332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9D00A-CD68-47D1-8040-40320BB6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3320"/>
            <a:ext cx="80010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F65D8-233B-475E-BA6A-D1EF4D08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1E06-23F0-4DAF-B71C-B344B703D5D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9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" name="Rectangle 17"/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ftr" idx="3"/>
          </p:nvPr>
        </p:nvSpPr>
        <p:spPr>
          <a:xfrm>
            <a:off x="76176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5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0000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62511172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026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AutoShape 1027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1" name="Group 1029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1030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1031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8438-912B-4D77-819C-A2674E7C6EB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034"/>
          <p:cNvSpPr/>
          <p:nvPr/>
        </p:nvSpPr>
        <p:spPr>
          <a:xfrm>
            <a:off x="9360" y="6358680"/>
            <a:ext cx="58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6FB6-4A70-4E14-B967-87AF3C466F5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2016</a:t>
            </a:r>
            <a:r>
              <a:rPr b="1" lang="zh-CN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年</a:t>
            </a:r>
            <a:r>
              <a:rPr b="1" lang="en-US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3</a:t>
            </a:r>
            <a:r>
              <a:rPr b="1" lang="zh-CN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月上海汽车市场上牌情况</a:t>
            </a:r>
            <a:br>
              <a:rPr sz="3600"/>
            </a:br>
            <a:r>
              <a:rPr b="1" lang="zh-CN" sz="3600" spc="-1" strike="noStrike">
                <a:solidFill>
                  <a:srgbClr val="003366"/>
                </a:solidFill>
                <a:latin typeface="华文行楷"/>
                <a:ea typeface="华文行楷"/>
              </a:rPr>
              <a:t>及上海市场消费特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46520" y="3644640"/>
            <a:ext cx="3741840" cy="11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华文楷体"/>
                <a:ea typeface="华文楷体"/>
              </a:rPr>
              <a:t>上海市信息中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华文楷体"/>
                <a:ea typeface="华文楷体"/>
              </a:rPr>
              <a:t>汽车产业研究室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0F80-8512-4352-A522-97BB8EAEB3A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016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月上海各车型</a:t>
            </a:r>
            <a:r>
              <a:rPr b="1" lang="zh-CN" sz="3200" spc="-1" strike="noStrike">
                <a:solidFill>
                  <a:srgbClr val="006666"/>
                </a:solidFill>
                <a:latin typeface="宋体"/>
              </a:rPr>
              <a:t>上牌量同比情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Rectangle 1028"/>
          <p:cNvSpPr/>
          <p:nvPr/>
        </p:nvSpPr>
        <p:spPr>
          <a:xfrm>
            <a:off x="2584440" y="48096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Rectangle 1035"/>
          <p:cNvSpPr/>
          <p:nvPr/>
        </p:nvSpPr>
        <p:spPr>
          <a:xfrm>
            <a:off x="2584440" y="101916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Rectangle 1042"/>
          <p:cNvSpPr/>
          <p:nvPr/>
        </p:nvSpPr>
        <p:spPr>
          <a:xfrm>
            <a:off x="2584440" y="47160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Rectangle 1049"/>
          <p:cNvSpPr/>
          <p:nvPr/>
        </p:nvSpPr>
        <p:spPr>
          <a:xfrm>
            <a:off x="2584440" y="83664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Rectangle 1056"/>
          <p:cNvSpPr/>
          <p:nvPr/>
        </p:nvSpPr>
        <p:spPr>
          <a:xfrm>
            <a:off x="2584440" y="47160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Rectangle 1063"/>
          <p:cNvSpPr/>
          <p:nvPr/>
        </p:nvSpPr>
        <p:spPr>
          <a:xfrm>
            <a:off x="2584440" y="47160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Rectangle 1070"/>
          <p:cNvSpPr/>
          <p:nvPr/>
        </p:nvSpPr>
        <p:spPr>
          <a:xfrm>
            <a:off x="2584440" y="47160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Rectangle 1077"/>
          <p:cNvSpPr/>
          <p:nvPr/>
        </p:nvSpPr>
        <p:spPr>
          <a:xfrm>
            <a:off x="2584440" y="471600"/>
            <a:ext cx="3973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14400" y="2362320"/>
          <a:ext cx="6608880" cy="3938400"/>
        </p:xfrm>
        <a:graphic>
          <a:graphicData uri="http://schemas.openxmlformats.org/drawingml/2006/table">
            <a:tbl>
              <a:tblPr/>
              <a:tblGrid>
                <a:gridCol w="1353960"/>
                <a:gridCol w="1051200"/>
                <a:gridCol w="1050840"/>
                <a:gridCol w="1050840"/>
                <a:gridCol w="1050840"/>
                <a:gridCol w="1051200"/>
              </a:tblGrid>
              <a:tr h="694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类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环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3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3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进口小客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（含轿车）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0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4.1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.8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84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.8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国产轿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9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.1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.9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46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.7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小型客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（除轿车）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7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.5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8.0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50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.8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大型客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6.5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.2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4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.7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小型货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1.0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.0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.3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大型货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6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.5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.1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8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.8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3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.3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.3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48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.3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F915-F52D-4CB8-9B34-A0A1920B4A0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1125360"/>
            <a:ext cx="800100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近两年上海车辆月度上牌数累计情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1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Rectangle 2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Rectangle 23"/>
          <p:cNvSpPr/>
          <p:nvPr/>
        </p:nvSpPr>
        <p:spPr>
          <a:xfrm>
            <a:off x="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27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2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Rectangle 33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Rectangle 35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Rectangle 3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Rectangle 4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Rectangle 19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Rectangle 20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Rectangle 203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20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762120" y="1965240"/>
            <a:ext cx="1090440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Rectangle 36"/>
          <p:cNvSpPr/>
          <p:nvPr/>
        </p:nvSpPr>
        <p:spPr>
          <a:xfrm>
            <a:off x="790560" y="2297160"/>
            <a:ext cx="8088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图片 1" descr=""/>
          <p:cNvPicPr/>
          <p:nvPr/>
        </p:nvPicPr>
        <p:blipFill>
          <a:blip r:embed="rId1"/>
          <a:stretch/>
        </p:blipFill>
        <p:spPr>
          <a:xfrm>
            <a:off x="804960" y="2349360"/>
            <a:ext cx="693576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3B61-B1A5-435A-AFC6-5DD0E78F1BF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近两年上海车辆月度上牌数量情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Rectangle 19"/>
          <p:cNvSpPr/>
          <p:nvPr/>
        </p:nvSpPr>
        <p:spPr>
          <a:xfrm>
            <a:off x="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2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Rectangle 23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Rectangle 29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31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33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Rectangle 35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Rectangle 38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Rectangle 40"/>
          <p:cNvSpPr/>
          <p:nvPr/>
        </p:nvSpPr>
        <p:spPr>
          <a:xfrm>
            <a:off x="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539640" y="1976400"/>
            <a:ext cx="95122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Rectangle 32"/>
          <p:cNvSpPr/>
          <p:nvPr/>
        </p:nvSpPr>
        <p:spPr>
          <a:xfrm>
            <a:off x="-1114560" y="2325600"/>
            <a:ext cx="54295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图片 1" descr=""/>
          <p:cNvPicPr/>
          <p:nvPr/>
        </p:nvPicPr>
        <p:blipFill>
          <a:blip r:embed="rId1"/>
          <a:stretch/>
        </p:blipFill>
        <p:spPr>
          <a:xfrm>
            <a:off x="833400" y="2349360"/>
            <a:ext cx="68515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D969-8205-4336-B4CF-8B6D2F1326A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016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6666"/>
                </a:solidFill>
                <a:latin typeface="宋体"/>
              </a:rPr>
              <a:t>上海上牌进口车来源国情况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00000" y="2421000"/>
          <a:ext cx="6678720" cy="3678120"/>
        </p:xfrm>
        <a:graphic>
          <a:graphicData uri="http://schemas.openxmlformats.org/drawingml/2006/table">
            <a:tbl>
              <a:tblPr/>
              <a:tblGrid>
                <a:gridCol w="1209960"/>
                <a:gridCol w="1093680"/>
                <a:gridCol w="1093680"/>
                <a:gridCol w="1093680"/>
                <a:gridCol w="1094040"/>
                <a:gridCol w="1093680"/>
              </a:tblGrid>
              <a:tr h="694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国别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环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3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3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12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德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.0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.3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3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.3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日本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6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.2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.7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7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.4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美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.8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.8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8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.7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英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.9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.5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.3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瑞典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.0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.1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.4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意大利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.4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.0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.8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法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.1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4.2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.8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韩国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.0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.8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.2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捷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1.6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.3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.43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0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4.1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.8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84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.8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6911-A372-4412-AEF9-91F67380884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016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6666"/>
                </a:solidFill>
                <a:latin typeface="宋体"/>
              </a:rPr>
              <a:t>上海国产轿车分类型上牌情况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14400" y="2362320"/>
          <a:ext cx="6603840" cy="3790800"/>
        </p:xfrm>
        <a:graphic>
          <a:graphicData uri="http://schemas.openxmlformats.org/drawingml/2006/table">
            <a:tbl>
              <a:tblPr/>
              <a:tblGrid>
                <a:gridCol w="1333440"/>
                <a:gridCol w="1054080"/>
                <a:gridCol w="1054080"/>
                <a:gridCol w="1054080"/>
                <a:gridCol w="1054080"/>
                <a:gridCol w="1054080"/>
              </a:tblGrid>
              <a:tr h="69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类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环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3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3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豪华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8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.3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.6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1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.4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中高级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2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4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.0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87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.6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中级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5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.4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.4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0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.7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普及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6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.2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.4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10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.7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微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52.1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51.0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.0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9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.1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.9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46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.7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4526-62D3-4A07-B688-912336676BE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016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月</a:t>
            </a:r>
            <a:r>
              <a:rPr b="1" lang="zh-CN" sz="3100" spc="-1" strike="noStrike">
                <a:solidFill>
                  <a:srgbClr val="006666"/>
                </a:solidFill>
                <a:latin typeface="Arial"/>
              </a:rPr>
              <a:t>上海国产小客车分类型上牌情况</a:t>
            </a:r>
            <a:endParaRPr b="1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843120" y="2421000"/>
          <a:ext cx="6681600" cy="3446280"/>
        </p:xfrm>
        <a:graphic>
          <a:graphicData uri="http://schemas.openxmlformats.org/drawingml/2006/table">
            <a:tbl>
              <a:tblPr/>
              <a:tblGrid>
                <a:gridCol w="1506240"/>
                <a:gridCol w="1035360"/>
                <a:gridCol w="1035000"/>
                <a:gridCol w="1035000"/>
                <a:gridCol w="1035000"/>
                <a:gridCol w="1035000"/>
              </a:tblGrid>
              <a:tr h="695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类型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环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3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-3</a:t>
                      </a: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同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55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PV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.2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.8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8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.5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V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6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.20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8.3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71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.5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一般小客车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9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.3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.9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0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.7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7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.5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8.04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50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.8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3"/>
          <p:cNvSpPr/>
          <p:nvPr/>
        </p:nvSpPr>
        <p:spPr>
          <a:xfrm>
            <a:off x="7010280" y="65509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灯片编号占位符 4"/>
          <p:cNvSpPr/>
          <p:nvPr/>
        </p:nvSpPr>
        <p:spPr>
          <a:xfrm>
            <a:off x="8424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A9D9-11EA-489F-8D2F-17143ED7C4E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页脚占位符 5"/>
          <p:cNvSpPr/>
          <p:nvPr/>
        </p:nvSpPr>
        <p:spPr>
          <a:xfrm>
            <a:off x="762120" y="6307560"/>
            <a:ext cx="8381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上海市信息中心汽车产业研究室</a:t>
            </a:r>
            <a:br>
              <a:rPr sz="1500"/>
            </a:b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地址：华山路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1076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号楼    邮编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200050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电话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62123126  </a:t>
            </a:r>
            <a:r>
              <a:rPr b="1" lang="zh-CN" sz="1500" spc="-1" strike="noStrike">
                <a:solidFill>
                  <a:srgbClr val="003366"/>
                </a:solidFill>
                <a:latin typeface="Times New Roman"/>
              </a:rPr>
              <a:t>传真：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</a:rPr>
              <a:t>52383989</a:t>
            </a:r>
            <a:r>
              <a:rPr b="1" lang="en-US" sz="1500" spc="-1" strike="noStrike">
                <a:solidFill>
                  <a:srgbClr val="003366"/>
                </a:solidFill>
                <a:latin typeface="Times New Roman"/>
                <a:ea typeface="黑体"/>
              </a:rPr>
              <a:t>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上海市汽车统计报表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826920" y="2317680"/>
          <a:ext cx="6624720" cy="4022640"/>
        </p:xfrm>
        <a:graphic>
          <a:graphicData uri="http://schemas.openxmlformats.org/drawingml/2006/table">
            <a:tbl>
              <a:tblPr/>
              <a:tblGrid>
                <a:gridCol w="360360"/>
                <a:gridCol w="1800360"/>
                <a:gridCol w="1079640"/>
                <a:gridCol w="1081080"/>
                <a:gridCol w="863640"/>
                <a:gridCol w="1439640"/>
              </a:tblGrid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5</a:t>
                      </a: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</a:t>
                      </a: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年</a:t>
                      </a: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月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增减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宋体"/>
                        </a:rPr>
                        <a:t>增减百分比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335160">
                <a:tc rowSpan="4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大型汽车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客车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98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13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84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.81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货车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797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30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6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.66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专用车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40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58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81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6.1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小计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36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502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533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5.47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35160">
                <a:tc rowSpan="5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小型汽车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客车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429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6395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66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.6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货车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5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23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7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.89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专用车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6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5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.9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其中郊区小客车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012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229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217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.2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小计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956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3764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07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.45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3516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其它车辆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94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49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.68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汽车总量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1087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8416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29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.52%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34"/>
          <p:cNvSpPr/>
          <p:nvPr/>
        </p:nvSpPr>
        <p:spPr>
          <a:xfrm>
            <a:off x="9360" y="6358680"/>
            <a:ext cx="587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D12F-74FA-4767-AE1D-4D3C5AB8F32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The  End</a:t>
            </a:r>
            <a:r>
              <a:rPr b="1" lang="zh-CN" sz="6000" spc="-1" strike="noStrike">
                <a:solidFill>
                  <a:srgbClr val="003366"/>
                </a:solidFill>
                <a:latin typeface="Arial"/>
              </a:rPr>
              <a:t>！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6666"/>
                </a:solidFill>
                <a:latin typeface="Arial"/>
              </a:rPr>
              <a:t>谢谢！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4:51:24Z</dcterms:created>
  <dc:creator>Rafael</dc:creator>
  <dc:description/>
  <dc:language>en-US</dc:language>
  <cp:lastModifiedBy>Administrator</cp:lastModifiedBy>
  <dcterms:modified xsi:type="dcterms:W3CDTF">2016-04-07T02:25:23Z</dcterms:modified>
  <cp:revision>503</cp:revision>
  <dc:subject/>
  <dc:title>上海市信息中心汽车产业研究室</dc:title>
</cp:coreProperties>
</file>