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63E-058E-4645-AF28-53E9D6BA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61B-27DC-4B73-BC44-6DC87F8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D13-F87D-41AC-A7ED-428335D3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FAB-045C-4E39-BA73-88FCD613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E60-0784-4514-B9FE-5CB5EEE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678-0E92-4294-B4F3-34BC1891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231-13E2-4C69-B332-903FF511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639-CC20-4E3F-AAC2-0EAD89BC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8EF-0B39-4342-8495-0A80CB2B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0E8-8B84-4D29-AA62-D924B1D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D5C-206C-494F-939A-3C5E2F1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BB6-7E25-4B5F-ACBC-F41AB4DA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A6A6-00A0-440E-BE81-CCABF29C6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7:53:20Z</dcterms:created>
  <dc:creator>Thinkpad</dc:creator>
  <dc:description/>
  <dc:language>en-US</dc:language>
  <cp:lastModifiedBy>Thinkpad</cp:lastModifiedBy>
  <dcterms:modified xsi:type="dcterms:W3CDTF">2016-04-08T07:59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